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C452-216E-490A-8573-C64565B0A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8381-A6E6-43E0-96FA-2E47ECED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8BBC-C4FF-4288-8DE5-06F822318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6465-F4DE-4BD5-8677-A9D0E9D1C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AEA7-F822-41D5-8022-5FA19F5C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DDF8-4C9D-4FB2-8AC5-3B3BA274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18AB-71F8-4B60-BD0F-109D7F19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B8CA-3A8D-4C1E-B027-2C6BA556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ECEB-E9F6-4875-B819-6F71424A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AACB-70F1-4376-8650-157F8FF9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409A-0FDC-47F0-B33B-32D1E542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D32E-6AF6-41EB-B981-390461D1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E47F-460C-411C-ADD3-ABC48524E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00000" y="2707920"/>
            <a:ext cx="5113440" cy="1152360"/>
          </a:xfrm>
          <a:prstGeom prst="rect">
            <a:avLst/>
          </a:prstGeom>
          <a:noFill/>
          <a:ln w="38160">
            <a:solidFill>
              <a:srgbClr val="ff0000"/>
            </a:solidFill>
            <a:prstDash val="lgDash"/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4949"/>
              </a:spcBef>
              <a:spcAft>
                <a:spcPts val="449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ies najlepszy przyjaciel człowiek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55640" y="620640"/>
            <a:ext cx="547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noFill/>
                <a:latin typeface="Arial Black"/>
              </a:rPr>
              <a:t>Rasy psó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</p:spTree>
  </p:cSld>
  <p:transition spd="med" advTm="8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Rasy psó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Eras Demi ITC"/>
              </a:rPr>
              <a:t>Border Col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Eras Demi ITC"/>
              </a:rPr>
              <a:t>Komon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yżeł Weirmańs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400" spc="-1" strike="noStrike">
                <a:solidFill>
                  <a:srgbClr val="000000"/>
                </a:solidFill>
                <a:latin typeface="Arial"/>
              </a:rPr>
              <a:t>Border Coll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76360" y="2565360"/>
            <a:ext cx="2819520" cy="2373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788000" y="2565360"/>
            <a:ext cx="34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ow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zedstawiciel tej rasy ma około 53 centymetry wysokości i 20 kilogramów wa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86880"/>
            <a:ext cx="822960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Komond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876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08000" y="2421000"/>
            <a:ext cx="2938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porny, wierny i odważny, nigdy nie uchyla się od swojego obowiązku zaganiania owiec, i jest strażnikiem godnym szacunku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Wyżeł Weirmańs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9040" y="109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87280" y="2060640"/>
            <a:ext cx="1954440" cy="1447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780000" y="3141720"/>
            <a:ext cx="393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yżeł weimarski jest rasą niemiecką, której nie należy mylić z wyżłem niemiecki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4869000"/>
            <a:ext cx="39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yżeł weimarski jest rasą niemiecką, której nie należy mylić z wyżłem niemiecki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Wyżeł Weirmańs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2520" y="87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32000" y="3213000"/>
            <a:ext cx="4176720" cy="2087640"/>
          </a:xfrm>
          <a:prstGeom prst="smileyFace">
            <a:avLst>
              <a:gd name="adj" fmla="val -46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16000" y="1699920"/>
            <a:ext cx="33224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Chart Afgańs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1360" y="87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3108240" cy="4525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076720" y="335772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wielbia się wybiegać, zmęczyć i nie zapomniał, że afgański był kiedyś psem używanym do polowa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38275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Sh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6680" y="9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0920" y="2133720"/>
            <a:ext cx="2403720" cy="30956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Najbardziej lubiane rasy psó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5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09:38:47Z</dcterms:created>
  <dc:creator>czytelnia</dc:creator>
  <dc:description/>
  <dc:language>en-US</dc:language>
  <cp:lastModifiedBy>R</cp:lastModifiedBy>
  <dcterms:modified xsi:type="dcterms:W3CDTF">2006-02-02T20:06:30Z</dcterms:modified>
  <cp:revision>9</cp:revision>
  <dc:subject/>
  <dc:title>Rasy psów</dc:title>
</cp:coreProperties>
</file>