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FB73-B7FC-4B81-B034-A294AD7E916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02FB-2F53-4A89-884F-9C3AFDF2D51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2AE-D6D6-4854-BE8E-1C5F34C6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E3B-909E-4D22-989C-4014EFE6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7F0-3397-4E0E-88B9-A1136967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79A-4C44-4CC6-B344-AB291192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183-228F-4FFA-BF51-31B68452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C9C-6CB6-45EF-A10B-D7B7E076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610-0651-4224-B25C-21CD1099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0408-1337-4BE1-A62B-94DC6F82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C8B-EAB1-49C2-8373-E27B728C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6CD-812C-44FA-B552-34BF0F2B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516-CDF9-4DAE-ABBD-CB18DAAF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E6C-A4FA-4EEF-BBB6-6447BCCB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B63A-52B9-42AF-9B89-81221A9DCBA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00"/>
                </a:solidFill>
                <a:latin typeface="Informal Roman"/>
              </a:rPr>
              <a:t>Czworokąty i ich własnośc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Baskerville Old Face"/>
              </a:rPr>
              <a:t>Każdy wielokąt mający cztery boki jest CZWOROKĄ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15"/>
          <p:cNvSpPr/>
          <p:nvPr/>
        </p:nvSpPr>
        <p:spPr>
          <a:xfrm>
            <a:off x="0" y="3429000"/>
            <a:ext cx="4616280" cy="2600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685800" y="47242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Czworokąt wypukł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22">
            <a:hlinkClick r:id="" action="ppaction://hlinkshowjump?jump=nextslide"/>
          </p:cNvPr>
          <p:cNvSpPr/>
          <p:nvPr/>
        </p:nvSpPr>
        <p:spPr>
          <a:xfrm>
            <a:off x="7620120" y="5791320"/>
            <a:ext cx="1523880" cy="106668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55" h="21600">
                <a:moveTo>
                  <a:pt x="8421" y="3794"/>
                </a:moveTo>
                <a:lnTo>
                  <a:pt x="22434" y="10800"/>
                </a:lnTo>
                <a:lnTo>
                  <a:pt x="8421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2f7676"/>
              </a:gs>
              <a:gs pos="100000">
                <a:srgbClr val="66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11"/>
          <p:cNvSpPr/>
          <p:nvPr/>
        </p:nvSpPr>
        <p:spPr>
          <a:xfrm>
            <a:off x="4419720" y="1905120"/>
            <a:ext cx="4302000" cy="46036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3505320"/>
            <a:ext cx="129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Czworokąt wklęsł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>
            <a:hlinkClick r:id="" action="ppaction://hlinkshowjump?jump=nextslide"/>
          </p:cNvPr>
          <p:cNvSpPr/>
          <p:nvPr/>
        </p:nvSpPr>
        <p:spPr>
          <a:xfrm>
            <a:off x="7391520" y="570384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3"/>
          <p:cNvSpPr txBox="1"/>
          <p:nvPr/>
        </p:nvSpPr>
        <p:spPr>
          <a:xfrm>
            <a:off x="2133720" y="685800"/>
            <a:ext cx="41148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2971800" y="1523880"/>
            <a:ext cx="25146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3124080" y="1828800"/>
            <a:ext cx="22100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3048120" y="2362320"/>
            <a:ext cx="259056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WordArt 7"/>
          <p:cNvSpPr txBox="1"/>
          <p:nvPr/>
        </p:nvSpPr>
        <p:spPr>
          <a:xfrm>
            <a:off x="3124080" y="2438280"/>
            <a:ext cx="26672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8"/>
          <p:cNvSpPr txBox="1"/>
          <p:nvPr/>
        </p:nvSpPr>
        <p:spPr>
          <a:xfrm>
            <a:off x="3276720" y="2438280"/>
            <a:ext cx="19810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Z</a:t>
            </a:r>
            <a:endParaRPr b="0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9"/>
          <p:cNvSpPr txBox="1"/>
          <p:nvPr/>
        </p:nvSpPr>
        <p:spPr>
          <a:xfrm>
            <a:off x="3505320" y="2590920"/>
            <a:ext cx="15238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</a:t>
            </a:r>
            <a:endParaRPr b="0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10"/>
          <p:cNvSpPr txBox="1"/>
          <p:nvPr/>
        </p:nvSpPr>
        <p:spPr>
          <a:xfrm>
            <a:off x="3429000" y="2819520"/>
            <a:ext cx="14479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</a:t>
            </a:r>
            <a:endParaRPr b="0" lang="en-US" sz="24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11"/>
          <p:cNvSpPr txBox="1"/>
          <p:nvPr/>
        </p:nvSpPr>
        <p:spPr>
          <a:xfrm>
            <a:off x="3352680" y="2971800"/>
            <a:ext cx="17528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</a:t>
            </a:r>
            <a:endParaRPr b="0" lang="en-US" sz="24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12"/>
          <p:cNvSpPr txBox="1"/>
          <p:nvPr/>
        </p:nvSpPr>
        <p:spPr>
          <a:xfrm>
            <a:off x="838080" y="914400"/>
            <a:ext cx="74678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rapezoid</a:t>
            </a:r>
            <a:endParaRPr b="0" lang="en-US" sz="24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" action="ppaction://hlinkshowjump?jump=nextslide"/>
          </p:cNvPr>
          <p:cNvSpPr/>
          <p:nvPr/>
        </p:nvSpPr>
        <p:spPr>
          <a:xfrm>
            <a:off x="7391520" y="570384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09680" y="380880"/>
            <a:ext cx="723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ff00"/>
                </a:solidFill>
                <a:latin typeface="Monotype Corsiva"/>
              </a:rPr>
              <a:t>Trapezoi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838080" y="182880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Monotype Corsiva"/>
              </a:rPr>
              <a:t>Trapezoid to czworokąty nie mające ani jednej pary boków równoległyc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1371600" y="3276720"/>
            <a:ext cx="1828800" cy="236196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62120" y="40384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Monotype Corsiv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133720" y="28195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Monotype Corsiv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200400" y="39625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Monotype Corsiva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905120" y="5410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Monotype Corsiv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1371600" y="4495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2286000" y="3352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809880" y="35812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Monotype Corsiva"/>
              </a:rPr>
              <a:t>Przykładem trapezoidu jest delt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733920" y="4114800"/>
            <a:ext cx="4876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Delt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[AB]=[AD]^[CD]=[BC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3"/>
          <p:cNvSpPr txBox="1"/>
          <p:nvPr/>
        </p:nvSpPr>
        <p:spPr>
          <a:xfrm>
            <a:off x="2438280" y="0"/>
            <a:ext cx="48769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KONIEC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AutoShape 4">
            <a:hlinkClick r:id="" action="ppaction://hlinkshowjump?jump=firstslide"/>
          </p:cNvPr>
          <p:cNvSpPr/>
          <p:nvPr/>
        </p:nvSpPr>
        <p:spPr>
          <a:xfrm>
            <a:off x="7620120" y="5638680"/>
            <a:ext cx="1523880" cy="1219320"/>
          </a:xfrm>
          <a:custGeom>
            <a:avLst/>
            <a:gdLst>
              <a:gd name="textAreaLeft" fmla="*/ 78840 w 1523880"/>
              <a:gd name="textAreaRight" fmla="*/ 1445040 w 15238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9998" y="10800"/>
                </a:moveTo>
                <a:lnTo>
                  <a:pt x="20503" y="3794"/>
                </a:lnTo>
                <a:lnTo>
                  <a:pt x="20503" y="17806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8153" y="3794"/>
                </a:lnTo>
                <a:lnTo>
                  <a:pt x="8153" y="17806"/>
                </a:lnTo>
                <a:lnTo>
                  <a:pt x="6490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33520" y="4952880"/>
            <a:ext cx="6705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Monotype Corsiva"/>
              </a:rPr>
              <a:t>Prezentacje przygotował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Monotype Corsiva"/>
              </a:rPr>
              <a:t>Agnieszka Szkopek i Paulina Gębic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val 38"/>
          <p:cNvSpPr/>
          <p:nvPr/>
        </p:nvSpPr>
        <p:spPr>
          <a:xfrm>
            <a:off x="0" y="990720"/>
            <a:ext cx="5105520" cy="586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37"/>
          <p:cNvSpPr/>
          <p:nvPr/>
        </p:nvSpPr>
        <p:spPr>
          <a:xfrm>
            <a:off x="380880" y="3429000"/>
            <a:ext cx="4419720" cy="3124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36"/>
          <p:cNvSpPr/>
          <p:nvPr/>
        </p:nvSpPr>
        <p:spPr>
          <a:xfrm>
            <a:off x="2057400" y="3886200"/>
            <a:ext cx="2438280" cy="1219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35"/>
          <p:cNvSpPr/>
          <p:nvPr/>
        </p:nvSpPr>
        <p:spPr>
          <a:xfrm>
            <a:off x="685800" y="4495680"/>
            <a:ext cx="1828800" cy="160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34"/>
          <p:cNvSpPr/>
          <p:nvPr/>
        </p:nvSpPr>
        <p:spPr>
          <a:xfrm>
            <a:off x="1143000" y="1219320"/>
            <a:ext cx="1295280" cy="228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3"/>
          <p:cNvSpPr/>
          <p:nvPr/>
        </p:nvSpPr>
        <p:spPr>
          <a:xfrm>
            <a:off x="2362320" y="5181480"/>
            <a:ext cx="1600200" cy="1219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Monotype Corsiva"/>
              </a:rPr>
              <a:t>Podział czworokątów wypukły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37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00cc99"/>
                </a:solidFill>
                <a:latin typeface="Times New Roman"/>
              </a:rPr>
              <a:t>1 Trapezoi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ccccff"/>
                </a:solidFill>
                <a:latin typeface="Times New Roman"/>
              </a:rPr>
              <a:t>2 Trapezy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3333cc"/>
                </a:solidFill>
                <a:latin typeface="Times New Roman"/>
              </a:rPr>
              <a:t>3  Równoległobo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808080"/>
                </a:solidFill>
                <a:latin typeface="Times New Roman"/>
              </a:rPr>
              <a:t>4 Prostoką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5 Kwadra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b2b2b2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b2b2b2"/>
                </a:solidFill>
                <a:latin typeface="Times New Roman"/>
              </a:rPr>
              <a:t>6 Rom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990720" y="1523880"/>
            <a:ext cx="990360" cy="9144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1295280" y="2209680"/>
            <a:ext cx="762120" cy="11430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3"/>
          <p:cNvSpPr/>
          <p:nvPr/>
        </p:nvSpPr>
        <p:spPr>
          <a:xfrm>
            <a:off x="3200400" y="1828800"/>
            <a:ext cx="1143000" cy="6094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15"/>
          <p:cNvSpPr/>
          <p:nvPr/>
        </p:nvSpPr>
        <p:spPr>
          <a:xfrm>
            <a:off x="2590920" y="2209680"/>
            <a:ext cx="1218960" cy="10670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762120" y="3886200"/>
            <a:ext cx="1676160" cy="609480"/>
          </a:xfrm>
          <a:prstGeom prst="parallelogram">
            <a:avLst>
              <a:gd name="adj" fmla="val 6875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2514600" y="4038480"/>
            <a:ext cx="1600200" cy="762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1143000" y="4724280"/>
            <a:ext cx="99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3"/>
          <p:cNvSpPr/>
          <p:nvPr/>
        </p:nvSpPr>
        <p:spPr>
          <a:xfrm>
            <a:off x="2666880" y="5257800"/>
            <a:ext cx="1067040" cy="10666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1371600" y="1828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3352680" y="23623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358128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1523880" y="2590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27432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12952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259092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1447920" y="4876920"/>
            <a:ext cx="533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29718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9">
            <a:hlinkClick r:id="" action="ppaction://hlinkshowjump?jump=nextslide"/>
          </p:cNvPr>
          <p:cNvSpPr/>
          <p:nvPr/>
        </p:nvSpPr>
        <p:spPr>
          <a:xfrm>
            <a:off x="7238880" y="5715000"/>
            <a:ext cx="1447920" cy="1143000"/>
          </a:xfrm>
          <a:custGeom>
            <a:avLst/>
            <a:gdLst>
              <a:gd name="textAreaLeft" fmla="*/ 73800 w 1447920"/>
              <a:gd name="textAreaRight" fmla="*/ 1374120 w 1447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60" h="21600">
                <a:moveTo>
                  <a:pt x="0" y="0"/>
                </a:moveTo>
                <a:lnTo>
                  <a:pt x="27360" y="0"/>
                </a:lnTo>
                <a:lnTo>
                  <a:pt x="27360" y="21600"/>
                </a:lnTo>
                <a:lnTo>
                  <a:pt x="0" y="21600"/>
                </a:lnTo>
                <a:close/>
              </a:path>
              <a:path fill="lightenLess" w="27360" h="21600">
                <a:moveTo>
                  <a:pt x="0" y="0"/>
                </a:moveTo>
                <a:lnTo>
                  <a:pt x="27360" y="0"/>
                </a:lnTo>
                <a:lnTo>
                  <a:pt x="25960" y="1400"/>
                </a:lnTo>
                <a:lnTo>
                  <a:pt x="1400" y="1400"/>
                </a:lnTo>
                <a:close/>
              </a:path>
              <a:path fill="darken" w="27360" h="21600">
                <a:moveTo>
                  <a:pt x="27360" y="0"/>
                </a:moveTo>
                <a:lnTo>
                  <a:pt x="27360" y="21600"/>
                </a:lnTo>
                <a:lnTo>
                  <a:pt x="25960" y="20200"/>
                </a:lnTo>
                <a:lnTo>
                  <a:pt x="25960" y="1400"/>
                </a:lnTo>
                <a:close/>
              </a:path>
              <a:path fill="darkenLess" w="27360" h="21600">
                <a:moveTo>
                  <a:pt x="27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60" y="20200"/>
                </a:lnTo>
                <a:close/>
              </a:path>
              <a:path fill="lighten" w="27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60" h="21600">
                <a:moveTo>
                  <a:pt x="6674" y="3794"/>
                </a:moveTo>
                <a:lnTo>
                  <a:pt x="20687" y="10800"/>
                </a:lnTo>
                <a:lnTo>
                  <a:pt x="6674" y="17806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3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6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9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250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7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9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>
            <a:hlinkClick r:id="" action="ppaction://hlinkshowjump?jump=nextslide"/>
          </p:cNvPr>
          <p:cNvSpPr/>
          <p:nvPr/>
        </p:nvSpPr>
        <p:spPr>
          <a:xfrm>
            <a:off x="7391520" y="57150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3"/>
          <p:cNvSpPr txBox="1"/>
          <p:nvPr/>
        </p:nvSpPr>
        <p:spPr>
          <a:xfrm>
            <a:off x="2514600" y="1371600"/>
            <a:ext cx="3886200" cy="40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3657600" y="2666880"/>
            <a:ext cx="19810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3962520" y="3048120"/>
            <a:ext cx="1371600" cy="18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3886200" y="3276720"/>
            <a:ext cx="15238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3886200" y="3657600"/>
            <a:ext cx="1371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4114800" y="3886200"/>
            <a:ext cx="914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WordArt 9"/>
          <p:cNvSpPr txBox="1"/>
          <p:nvPr/>
        </p:nvSpPr>
        <p:spPr>
          <a:xfrm>
            <a:off x="4191120" y="3962520"/>
            <a:ext cx="914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1219320" y="1295280"/>
            <a:ext cx="67816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rapez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196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50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2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evt="end">
                                        <p:tn val="220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ff00"/>
                </a:solidFill>
                <a:latin typeface="Monotype Corsiva"/>
              </a:rPr>
              <a:t>TRAPEZ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Pierwszą rzeczą, od której zaczniemy nasze rozważania będą własności figur zwanych trapezami, a więc: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TRAPEZY mają co najmniej jedną parę boków równoległych . Te boki nazywamy podstawami ,pozostałe to rami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5">
            <a:hlinkClick r:id="" action="ppaction://hlinkshowjump?jump=nextslide"/>
          </p:cNvPr>
          <p:cNvSpPr/>
          <p:nvPr/>
        </p:nvSpPr>
        <p:spPr>
          <a:xfrm>
            <a:off x="7315200" y="5486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7652" y="3794"/>
                </a:moveTo>
                <a:lnTo>
                  <a:pt x="21665" y="10800"/>
                </a:lnTo>
                <a:lnTo>
                  <a:pt x="7652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1371600" y="4876920"/>
            <a:ext cx="1219320" cy="10666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2666880" y="4952880"/>
            <a:ext cx="1752840" cy="99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3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6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3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37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12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2700"/>
                            </p:stCondLst>
                            <p:childTnLst>
                              <p:par>
                                <p:cTn id="26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>
            <a:hlinkClick r:id="" action="ppaction://hlinkshowjump?jump=nextslide"/>
          </p:cNvPr>
          <p:cNvSpPr/>
          <p:nvPr/>
        </p:nvSpPr>
        <p:spPr>
          <a:xfrm>
            <a:off x="7391520" y="57150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724120" y="465120"/>
            <a:ext cx="34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00"/>
                </a:solidFill>
                <a:latin typeface="Monotype Corsiva"/>
              </a:rPr>
              <a:t>TRAPEZ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09480" y="160020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Monotype Corsiva"/>
              </a:rPr>
              <a:t>W dowolnym trapezie suma knotów przy każdym ramieniu jest równa 180\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85800" y="3048120"/>
            <a:ext cx="784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Monotype Corsiva"/>
              </a:rPr>
              <a:t>Twierdzenie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pl-PL" sz="3600" spc="-1" strike="noStrike">
                <a:solidFill>
                  <a:srgbClr val="ffff00"/>
                </a:solidFill>
                <a:latin typeface="Monotype Corsiva"/>
              </a:rPr>
              <a:t>odcinek łączący środki ramion jest równoległy do podstaw trapezu i jego długości jest połowa sumy długości podst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>
            <a:hlinkClick r:id="" action="ppaction://hlinkshowjump?jump=nextslide"/>
          </p:cNvPr>
          <p:cNvSpPr/>
          <p:nvPr/>
        </p:nvSpPr>
        <p:spPr>
          <a:xfrm>
            <a:off x="7391520" y="570384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WordArt 6"/>
          <p:cNvSpPr txBox="1"/>
          <p:nvPr/>
        </p:nvSpPr>
        <p:spPr>
          <a:xfrm>
            <a:off x="914400" y="685800"/>
            <a:ext cx="586728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2895480" y="1066680"/>
            <a:ext cx="419112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3352680" y="1676520"/>
            <a:ext cx="3124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3809880" y="1905120"/>
            <a:ext cx="27432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3886200" y="1981080"/>
            <a:ext cx="2590920" cy="248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5" name="WordArt 11"/>
          <p:cNvSpPr txBox="1"/>
          <p:nvPr/>
        </p:nvSpPr>
        <p:spPr>
          <a:xfrm>
            <a:off x="4038480" y="1828800"/>
            <a:ext cx="22100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3962520" y="2133720"/>
            <a:ext cx="19047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7" name="WordArt 13"/>
          <p:cNvSpPr txBox="1"/>
          <p:nvPr/>
        </p:nvSpPr>
        <p:spPr>
          <a:xfrm>
            <a:off x="3962520" y="2133720"/>
            <a:ext cx="1981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3886200" y="2514600"/>
            <a:ext cx="1371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9" name="WordArt 15"/>
          <p:cNvSpPr txBox="1"/>
          <p:nvPr/>
        </p:nvSpPr>
        <p:spPr>
          <a:xfrm>
            <a:off x="4191120" y="2209680"/>
            <a:ext cx="14475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0" name="WordArt 16"/>
          <p:cNvSpPr txBox="1"/>
          <p:nvPr/>
        </p:nvSpPr>
        <p:spPr>
          <a:xfrm>
            <a:off x="4443480" y="2362320"/>
            <a:ext cx="966600" cy="14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4448160" y="2362320"/>
            <a:ext cx="885960" cy="14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4505400" y="2590920"/>
            <a:ext cx="600120" cy="12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WordArt 19"/>
          <p:cNvSpPr txBox="1"/>
          <p:nvPr/>
        </p:nvSpPr>
        <p:spPr>
          <a:xfrm>
            <a:off x="990720" y="1447920"/>
            <a:ext cx="693396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ównoległobok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4" name="WordArt 21"/>
          <p:cNvSpPr txBox="1"/>
          <p:nvPr/>
        </p:nvSpPr>
        <p:spPr>
          <a:xfrm>
            <a:off x="4452840" y="2438280"/>
            <a:ext cx="110988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3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9000"/>
                            </p:stCondLst>
                            <p:childTnLst>
                              <p:par>
                                <p:cTn id="34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evt="end">
                                        <p:tn val="382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9500"/>
                            </p:stCondLst>
                            <p:childTnLst>
                              <p:par>
                                <p:cTn id="39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1000"/>
                            </p:stCondLst>
                            <p:childTnLst>
                              <p:par>
                                <p:cTn id="40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1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>
            <a:hlinkClick r:id="" action="ppaction://hlinkshowjump?jump=nextslide"/>
          </p:cNvPr>
          <p:cNvSpPr/>
          <p:nvPr/>
        </p:nvSpPr>
        <p:spPr>
          <a:xfrm>
            <a:off x="7391520" y="570384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438280" y="457200"/>
            <a:ext cx="541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ff00"/>
                </a:solidFill>
                <a:latin typeface="Monotype Corsiva"/>
              </a:rPr>
              <a:t>Równoległobok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57200" y="1143000"/>
            <a:ext cx="8305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1" lang="pl-PL" sz="3600" spc="-1" strike="noStrike">
                <a:solidFill>
                  <a:srgbClr val="ffff00"/>
                </a:solidFill>
                <a:latin typeface="Monotype Corsiva"/>
              </a:rPr>
              <a:t>są to czworokąty wiążące dwie pary bokó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7086600" y="1676520"/>
            <a:ext cx="1752480" cy="914400"/>
          </a:xfrm>
          <a:prstGeom prst="parallelogram">
            <a:avLst>
              <a:gd name="adj" fmla="val 479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0" y="182880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Twierdzen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długości przeciwległych boków są rów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Przeciwległe kąty równoległoboków są rów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Przekątne dzielą się na połow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Suma knotów przy tym samym boku wynosi 180|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>
            <a:hlinkClick r:id="" action="ppaction://hlinkshowjump?jump=nextslide"/>
          </p:cNvPr>
          <p:cNvSpPr/>
          <p:nvPr/>
        </p:nvSpPr>
        <p:spPr>
          <a:xfrm>
            <a:off x="7391520" y="570384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WordArt 3"/>
          <p:cNvSpPr txBox="1"/>
          <p:nvPr/>
        </p:nvSpPr>
        <p:spPr>
          <a:xfrm>
            <a:off x="2590920" y="-380880"/>
            <a:ext cx="3962160" cy="65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2895480" y="2057400"/>
            <a:ext cx="32004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2666880" y="2362320"/>
            <a:ext cx="28195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2895480" y="2819520"/>
            <a:ext cx="20574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2971800" y="2881440"/>
            <a:ext cx="1700280" cy="29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WordArt 8"/>
          <p:cNvSpPr txBox="1"/>
          <p:nvPr/>
        </p:nvSpPr>
        <p:spPr>
          <a:xfrm>
            <a:off x="3200400" y="2881440"/>
            <a:ext cx="1523880" cy="26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2438280"/>
            <a:ext cx="12952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k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3048120" y="3276720"/>
            <a:ext cx="1600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ą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2971800" y="2438280"/>
            <a:ext cx="1700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2895480" y="2881440"/>
            <a:ext cx="1814760" cy="28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WordArt 13"/>
          <p:cNvSpPr txBox="1"/>
          <p:nvPr/>
        </p:nvSpPr>
        <p:spPr>
          <a:xfrm>
            <a:off x="1066680" y="0"/>
            <a:ext cx="7162920" cy="624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rostokąt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8" dur="1" fill="hold">
                                    <p:stCondLst>
                                      <p:cond evt="end">
                                        <p:tn val="452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5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500"/>
                            </p:stCondLst>
                            <p:childTnLst>
                              <p:par>
                                <p:cTn id="46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9000"/>
                            </p:stCondLst>
                            <p:childTnLst>
                              <p:par>
                                <p:cTn id="49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" action="ppaction://hlinkshowjump?jump=nextslide"/>
          </p:cNvPr>
          <p:cNvSpPr/>
          <p:nvPr/>
        </p:nvSpPr>
        <p:spPr>
          <a:xfrm>
            <a:off x="7391520" y="570384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2057400" y="380880"/>
            <a:ext cx="579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ff00"/>
                </a:solidFill>
                <a:latin typeface="Monotype Corsiva"/>
              </a:rPr>
              <a:t>PROSTOKAT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0" y="1295280"/>
            <a:ext cx="91440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Monotype Corsiva"/>
              </a:rPr>
              <a:t>Prostokąt ma wszystkie właściwości równoległoboku a ponadto jego przekątne są równe . Równoległobok mając boki równej długości nazywamy romb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Monotype Corsiva"/>
              </a:rPr>
              <a:t>Romb ma wszystkie właściwości równoległoboku a ponad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Monotype Corsiva"/>
              </a:rPr>
              <a:t>1)przekątne są dwusiecznymi kątów wewnętrznych rombu 2)przekątne ś prostopadł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838080" y="4876920"/>
            <a:ext cx="205740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733920" y="4724280"/>
            <a:ext cx="2057400" cy="15242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9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6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na Kargol</dc:creator>
  <dc:description/>
  <dc:language>en-US</dc:language>
  <cp:lastModifiedBy>Hanna Kargol</cp:lastModifiedBy>
  <dcterms:modified xsi:type="dcterms:W3CDTF">2009-08-06T17:19:27Z</dcterms:modified>
  <cp:revision>7</cp:revision>
  <dc:subject/>
  <dc:title>PowerPoint Presentation</dc:title>
</cp:coreProperties>
</file>