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A55-34F3-45F7-8886-C11C3F7C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80B-7DA0-4525-A755-7651ACCE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41D9F-AA53-4E37-8BAB-D70F61A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BF5C6-03DB-4198-89F7-317AA62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A2B9-C643-40FA-B2F7-DC64A75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1413E-8633-4B67-85E5-E3974C9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3199E-ED3C-4B35-B73E-433A3CD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F741F-8BA7-4E68-BFB3-67FD26A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11178-4227-4326-8BFC-573F0235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83B63-E032-43FC-940D-D138175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A84E-4657-4E80-A67C-0CECA6E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E08C0-3E43-4658-876E-DCA2A586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F25-E022-4FEE-8D0C-E228F333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6736D-9E43-4F65-AC54-0315CA3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C3BD2-B253-4719-B305-93998B4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E3346-215D-4A3D-9D9C-349D9D5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18A61-59DF-4F93-94AA-C5F0D01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43030-A89C-4027-AFDE-90DB629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9F2A7-37CB-4063-9D58-AA5F8359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9B722-874F-45C4-9645-8809BFA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49FB6-4101-4A77-AA86-CC5E792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C8578-D6F6-4D21-8B46-47F31120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7081B-7923-481D-BE68-AE7F1A64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EBA-A5E1-4B1F-A477-915D0DE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76550-FB1E-481C-897E-59A16C73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F1765-0DED-48D4-BEA5-915A5907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DA80B-FFE4-41B2-937A-00E7E95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6C4BE-9D06-45D0-B68A-91610A21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FECD3-76C8-4C3E-8105-5017B6A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42C79-961C-4B75-93EE-CC72D75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35FD8-2A77-452C-BDAE-8F844AB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EEFF-9B10-4055-B4BE-0CF61ED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A4F04-8E6E-4179-9319-43C3792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67F8-3B48-4098-B659-8DBE55E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F61E-E133-40E9-B91F-23DFA602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5F35D-FBDD-440E-90C0-A25BE23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F56E1-C6AA-4799-A8CC-B1050B67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711E2-7556-43F1-BB6D-45445036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02F3-9643-4BA4-8A07-C1DC88B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A4EE9-791F-4A87-BD53-F496CE4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4686A-4F06-4CB6-A486-41621FC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CEB3-0050-4A66-A2A5-90ABC85E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7BD9E-1B92-4196-BD64-FF3B8C4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08178-201B-47FC-95AA-4870AB32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22C76-A0F1-4DAC-8373-DFA6F6B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7F6-8A00-486D-B4FC-9AD6C67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EED63-2ECF-4106-9737-D241B6A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6E201-D26A-4832-832D-1214A0D1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7ACBB-C8DF-491C-B79B-CC47983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722E7-E0BC-444F-8A0C-9308FF2E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5B2B-02D8-46D5-9CF1-A9B27C78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96F4F-1235-4DC5-8CD4-EDCD0D12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9363B-AABB-4DDB-944B-4E16541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577A4-B2D8-4B18-8760-D845891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7257A-F78C-4E35-9A5C-6E29DEE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1AA40-ABFB-4C6A-BBD1-A7EF2221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29B-4208-4A46-9EE7-11B7B88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98068-F598-4B34-A7C9-91C8CC20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DCFA3-65AF-4038-B884-D5B83CF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1BAAB-E015-4240-87F8-73EA917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DE98F-9B75-49B7-A137-8A2D62C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0B002-D17D-46E3-9767-40454B8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F6EF8-C39E-4EF5-9B3E-379D606C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2A5AE-9C43-4308-9386-22462DB0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81520-E55E-4921-94F3-AC7D9A40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13F2C-EA4B-44E9-B309-32C1F69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957B1-0284-437B-97F6-68BDC900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D408-FF93-4737-9234-F318FD3A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49958-1C2E-4B75-B795-EBCA8F7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1CFE6-CE88-4E90-A2EF-89E05F85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CC68-BB52-4A3A-A546-26E40AA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1E7AB-465B-486C-B942-674D764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39D2B-437C-4E27-89F6-DA85727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1826F-B23A-48DB-8071-DF62EBE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CDEAB-C3D1-4951-AC60-7677171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0A129-F985-4670-8CCD-75A375E7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D9588-A6F0-4239-B7A2-AF573AD4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19B5B-B759-4E9E-87BB-6A8462A6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0CF-C8ED-4763-B1F8-87CBD52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A35B4-14E5-4396-8FE4-887847FE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1383D-AAF6-4B71-BADC-2D7CFBD7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C1072-94F8-4485-9FCE-F8872DE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C355F-0170-4AFC-9973-E01B256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94BFE-DA5A-48FE-9FD1-996B727F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B2E1A-8D67-4C58-A51E-3B0B325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43C1B-3764-487C-B58D-CCC03C3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8F7C8-2211-4D87-B05F-F64F8DE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3D0FF-BEA6-4C98-AF86-2A27156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F5C24-3BD3-44E4-96FD-130791B7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6B5-5777-461A-9AEA-37127C4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EC241-0727-4A88-9350-D217E823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8AD1A9-8E9F-4FB1-A7C7-F6542063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A49E8F-2BBA-413E-8A72-4E414E7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EA87E4-528E-4AA1-A3B3-3BCA28D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5F1B3D-923F-46D9-AB24-053C42B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5984FE-B662-4032-A01C-CA8EC96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2DC950-D73A-49ED-9F74-F7543214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99AD35-5D47-43F6-93BA-CD056B2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2F2B03-7AB3-4B05-A152-A8F3E42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AADA01-73EB-429A-9168-8F6C46E3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413-49C5-47A3-BC6F-0074BEF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C5275C-BBDD-49AE-9978-931D9044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132980-90AE-4B98-86DB-F5F6A65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4D9986-1F9E-400E-AAB7-03CAF7AD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EC4-4C3B-4DAC-8491-EE15D96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2C9-FDDD-4C40-A33E-4CD05B0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5DD8-40A8-4290-B6C1-A617EBF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19B-5F2E-4E23-8285-653A678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2AB-88A1-4204-B385-1FECBCD3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04BD-6140-43DB-9A87-1F627A13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43F6-8F1A-4B18-87FC-E748EF2C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F419-A90C-48CA-A8A2-C085B5B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CF74-4F20-45C7-B29D-17002AD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93DF-D4FE-4A68-AA0C-18ADC8A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A084-8DE9-4FBF-8B42-5B3AEA6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BE4-9656-462E-85F1-56F99AC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FE63-4495-47C5-929F-FF79172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AF62-A95E-4088-BE52-76DFFE8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AD4B-B21F-41F8-822E-589A784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EBC1-C88F-447E-9138-77C6C1B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9F4E-626F-43AE-8507-80F3ECAB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FBBA-E852-4F86-AFAB-1DD34758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FEA7-2C60-4F04-9F22-2E7E77BA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A346-C7C8-4BDE-AD80-3AAEE71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2A2D-E607-4FFA-B40D-DFACE8E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25D7-1E90-449A-A3A1-7924ABB4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53C-CA97-45E6-A83A-2EB35C7D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3B4E-C7AA-444B-A1A7-3078D6E0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82E1-2AE4-4B1B-9BA9-AED2226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B8B7-B917-4E15-AF22-B5713B68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D175-D013-4B95-AE3F-93663A6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C952-6338-4FE2-8306-2D1BEE9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4A6D-9C5D-4445-A460-BD3855E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0990-FB80-4319-BA46-A6CB031C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B7FF-FF55-4154-B505-5EC3054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6A8E-BFE3-494C-8E2C-08629C90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3EBED-59D4-4473-8619-24C8BB68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555-1CA7-474A-AC91-92BDEBFC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7B657-0BA2-428B-8DED-5D42C0C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023B6-4C82-41DE-83FE-1EF9CAD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EF7AE-568A-48C3-9014-E057674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FED7F-487B-4DAB-A641-6203F73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C1A90-D3F5-4FC3-8D0A-60DB673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36078-CC67-45D0-8D6A-ED8A2BF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C230B-8871-4BC4-86DE-66DC6CA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0B1CE-7AF7-4300-A944-6E957E6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4A42E-B06B-4F8A-9D1F-F0AB2DB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179B6-566D-44D0-8795-71D6E8E3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F90-9028-4EDD-AE44-C0140EC2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8A486-DF1A-4081-BF4D-080A1F86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9D7D-8D89-47EB-B133-43FACBD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2A40-C1D6-45D4-A61C-1ADC81B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81EE-F3DC-45D4-B83F-B78C1DF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A092-D233-486A-B817-13C3E45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83BA-0C4F-4B6B-849D-EE25248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8209E-BD2C-4CE6-BF1A-092D3174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E625-A6FA-4FDE-9511-23A561A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45B8-A5F9-4CA3-B435-A37532D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F166-6E34-4374-84FF-B25296B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FF7-8758-4C90-84D6-D6CBEAA2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DBDD-1770-4DEA-B985-7D73F1D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64FA-673B-44FA-BBF9-8973398E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D2C6-2E53-4528-857A-ADDF5745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E2D3-7B2B-40E5-AAFD-C5570D8F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64BC-6033-49A5-A677-5D4A0C94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633B-5F2F-423A-AD34-4DDD7A24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D1F0-707A-4D86-803C-FCAD9C6A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6EE6E-617E-4325-8EDF-A70BD02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C638-5F22-4969-A8BE-73A1A98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AA57-32A5-4117-9C7B-84E1E9B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110-10F5-478C-BE6E-C6E9649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1AC7-F59E-424F-9A78-3DC704B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4815-8737-43D4-9D60-6BF03E4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D574-477C-43CC-8C59-4FB30F08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E628-C9FB-4F26-B861-9D198ADC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9F92-AC5B-4FDC-911F-A2903AAC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6687-48E1-4EEA-A526-F0E8ED2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3507-BEB9-4395-8C26-35750697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68B0-C3F5-40FE-8487-A80BBA30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7D1D-E7E4-47C7-A252-91B0AA0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F3D3-E0C6-4955-9D05-0A5540E9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1C9-B590-4F54-9EDE-ACC8FE40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68A4-7B9E-4E83-8F0B-B959AFEB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CCBF-E8F8-478E-8583-9987BF7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1A99D-BD7C-4660-9FAE-308BF3F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E44E-A22C-4753-B84C-C39189A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5D5C-61A1-4B81-9B7C-8298226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AD35-397C-4D1C-8256-12DC7BAE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820B-A167-4210-AB73-56D1DAB7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31D79-2FE3-4CC2-B824-E675AB1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7DD7F-9584-45BC-8B4B-5722299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3D4BD-C23B-4228-97C3-7C3DF4ED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CD2-1D8D-41A9-A60C-F06F7E27A7A1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50AB-2D02-442C-AAB9-1C70847E6C72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75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86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87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5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2A9-9E64-4457-A7C4-D8EAE2027C7C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1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1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3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D8D0-855A-4C49-8785-E131F31F1D24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68C-1FDB-4A00-9A81-618B6E63938F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3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4A3-9222-4F7F-8CD6-D93432AB8C3B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84E2-DC6F-4FBD-930B-4C56F177861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6E39-74EA-48AA-A95C-27779A8A257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F14-8EA8-4EDD-B5CA-C5CDA3C2EEE6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580-D079-450D-BC57-9D2B153542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7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7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8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0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2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DE4-38EF-4525-941C-3CFC49C2C0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E64-6CA7-48D9-95EE-B025DB51E552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0AEC-3D77-4CA5-8ACF-5C8CF1335BBC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292-E356-4FE4-B59A-C42B6DCA66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5D52-121D-406A-9337-4510020AF48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6B8-411C-4069-AA6F-20DA8F9204E0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ATEMATYK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0" y="10029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OLA WSPÓŁCZYNNIKA KIERUNKOWEG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- współczynnik kierunkowy prostej y = ax + b 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= tangens kąta nachylenia prostej y = ax + b do osi OX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&gt; 0, to funkcja liniowa jest rosnąc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&lt; 0, to funkcja liniowa jest malejąc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eżeli a = 0, to funkcja liniowa jest stała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2627280" y="569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Własności funkcji y = ax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619280" y="1268280"/>
          <a:ext cx="5894280" cy="4550040"/>
        </p:xfrm>
        <a:graphic>
          <a:graphicData uri="http://schemas.openxmlformats.org/drawingml/2006/table">
            <a:tbl>
              <a:tblPr/>
              <a:tblGrid>
                <a:gridCol w="2970360"/>
                <a:gridCol w="292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la a &gt; 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la a &lt; 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D = R, Y =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Miejsce zerowe:  x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0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osnąca dla x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óżnowartościowa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Posiada funkcję odwrotną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Jest nieparzysta, bo wykres jest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etryczny względem punktu  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Nie osiąga wartości największej ani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jmniejszej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y &gt; 0 dla x &gt; 0; y &lt; 0 dla x &lt; 0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Wykresem funkcji jest linia prost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hylona do osi OX pod kątem  ostrym przechodząca przez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. (0;0)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D = R, Y =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Miejsce zerowe:  x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0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malejąca dla x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R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Funkcja jest różnowartościowa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Posiada funkcję odwrotną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Jest nieparzysta, bo wykres jest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etryczny względem punktu 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Nie osiąga wartości największej ani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jmniejszej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y &gt; 0 dla x &lt; 0; y &lt; 0 dla x &gt; 0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Wykresem funkcji jest linia prosta  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hylona do osi OX pod kątem 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zwartym przechodząca przez  p.(0;0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-329760" y="2045880"/>
            <a:ext cx="9801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niose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je te różnią się kątem nachylenia do osi OX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oich wykresów oraz monotonicznością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tóra wiąże się z kątem nachylenia wykresów do osi OX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atego współczynnik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zywa się współczynnikiem kierunkowym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 wpływa na kierunek prostej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KCJA LINIOW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755640" y="1818360"/>
            <a:ext cx="770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unkcję określoną wzore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y = ax + b,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dzie a i b są ustalonymi liczbami rzeczywistymi, nazywamy FUNKCJĄ LINIOWĄ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55960" y="4869000"/>
            <a:ext cx="902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gdzie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a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nazywamy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współczynnikiem kierunkowym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który decyduje o nachyleniu wykresu do osi X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nazywamy 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wyrazem wolnym,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który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wyznacza punkt przecięcia wykresu z osią Y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1492200" y="765000"/>
            <a:ext cx="6232680" cy="5832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971640" y="2012040"/>
            <a:ext cx="70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ziedziną funkcji liniowej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st zbiór liczb rzeczywistych 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ykresem funkcji liniowej jest prosta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0" y="259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FUNKCJA POSTACI y = a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25440" y="980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83" name=""/>
          <p:cNvGraphicFramePr/>
          <p:nvPr/>
        </p:nvGraphicFramePr>
        <p:xfrm>
          <a:off x="395280" y="1916280"/>
          <a:ext cx="7315200" cy="487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y = 2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105080" cy="414360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395280" y="907920"/>
            <a:ext cx="65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Przykład 1 Sporzadzić wykresy funkcji y = 2x </a:t>
            </a:r>
            <a:br>
              <a:rPr sz="1800"/>
            </a:b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Sporządzamy tabelki wartości funkcji dla kilku argumentó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i zaznaczamy punkty w układzie współrzędnych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1120" y="691920"/>
            <a:ext cx="65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Przykład 2 Sporzadzić wykresy funkcji y = -2x </a:t>
            </a:r>
            <a:br>
              <a:rPr sz="1800"/>
            </a:b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Sporządzamy tabelki wartości funkcji dla kilku argumentó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6699"/>
                </a:solidFill>
                <a:latin typeface="Tahoma"/>
              </a:rPr>
              <a:t>i zaznaczamy punkty w układzie współrzędnych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395280" y="1844640"/>
          <a:ext cx="7315200" cy="4874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y = -2x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2771640" y="2714760"/>
            <a:ext cx="4105440" cy="414324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0" y="191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FUNKCJA POSTACI y = -a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-159480" y="1874160"/>
            <a:ext cx="6202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3767"/>
                </a:solidFill>
                <a:latin typeface="Tahoma"/>
                <a:ea typeface="Tahoma"/>
              </a:rPr>
              <a:t>Wykresy funkcji liniowej w zależności od współczynnika kierunkowego a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0" y="1989000"/>
          <a:ext cx="9144000" cy="2679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67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142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     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133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2e3767"/>
                          </a:solidFill>
                          <a:latin typeface="Tahoma"/>
                          <a:ea typeface="Tahoma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2" name=""/>
          <p:cNvSpPr/>
          <p:nvPr/>
        </p:nvSpPr>
        <p:spPr>
          <a:xfrm>
            <a:off x="-3960" y="4678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3767"/>
                </a:solidFill>
                <a:latin typeface="Tahoma"/>
                <a:ea typeface="Tahoma"/>
              </a:rPr>
              <a:t>Dla a = 0 funkcja jest stała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314440" cy="226692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214308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e4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179280" y="120132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 podstawie tych dwóch funkcj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kreślimy własności funkcji y = ax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ziedziną funkcji jest zbiór liczb rzeczywistych R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biorem wartości funkcji jest zbiór liczb rzeczywistych 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ykresem funkcji liniowej jest prost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hodząca przez punkty (0,0) i (1,a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eżeli a &gt; 0 to funkcja jest rosnąca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eżeli a &lt; 0 to funkcja jest malejąc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0:01:23Z</dcterms:created>
  <dc:creator>Zbyszek</dc:creator>
  <dc:description/>
  <dc:language>en-US</dc:language>
  <cp:lastModifiedBy>.</cp:lastModifiedBy>
  <dcterms:modified xsi:type="dcterms:W3CDTF">2009-08-05T11:48:54Z</dcterms:modified>
  <cp:revision>6</cp:revision>
  <dc:subject/>
  <dc:title>MATEMATYKA</dc:title>
</cp:coreProperties>
</file>