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SWIST.WAV" ContentType="audio/x-wav"/>
  <Override PartName="/ppt/media/image7.png" ContentType="image/png"/>
  <Override PartName="/ppt/media/image6.png" ContentType="image/png"/>
  <Override PartName="/ppt/media/LASER.WAV" ContentType="audio/x-wav"/>
  <Override PartName="/ppt/media/image4.png" ContentType="image/png"/>
  <Override PartName="/ppt/media/image10.png" ContentType="image/png"/>
  <Override PartName="/ppt/media/image5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MASZYNA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6AE-085D-4C0C-82D5-047CFE64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16F-1186-426E-A605-BB890386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A9C-AD26-40C9-A5B3-3003A115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B14-C9A4-4E92-B61D-E6702ABC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72FF-B7AC-45F9-B300-07D9D5BF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507A-E6EA-4ABE-873D-29ACC603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1E17-A45D-4930-82BE-CD86AE8C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85CE-5D68-4591-A8F9-F678080E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030E-E526-4E60-AB54-E17E749C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453E-4916-4EBE-AA53-E5A1FA00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7209-16E8-475C-8C45-AA512E16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A65-B945-4652-8CAC-BE4CF4E0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68D3-AB89-4DFC-BEB1-525BACCD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A322-BD3E-4810-95AE-10EA422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EFDB-FE65-40AC-8E10-73B856E3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6298-0632-44C5-A078-5CFD5A3F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5917-BE2B-454E-B112-C2182039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EAF-AD03-431D-848B-5B36871F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852-B7C0-4AB8-BE13-D26BFE36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EA6-B40D-4E90-AB8E-BE54735D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D08-A9A9-44DA-8E04-39A04B08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1DE-C5B1-4AC7-835F-7D9BCC3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361-B72D-4544-89E9-D4148A6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B9A-E2B9-4E6B-B92A-1157C6F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F16F-2C4D-415B-AB88-C5919E224C61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2988-5238-42B4-9FCD-34984E31B337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SZYN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WIST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772400" cy="213372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600" spc="-1" strike="noStrike" u="sng">
                <a:solidFill>
                  <a:srgbClr val="800000"/>
                </a:solidFill>
                <a:uFillTx/>
                <a:latin typeface="Times New Roman"/>
              </a:rPr>
              <a:t>Koło i okrąg</a:t>
            </a:r>
            <a:endParaRPr b="0" lang="en-US" sz="9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213336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100000">
                <a:srgbClr val="762f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imes New Roman"/>
              </a:rPr>
              <a:t>Wzajemne położenie dwóch okręgó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1) okręgi nie mają punktów wspólnych i są położone na zewnątrz siebie( O1O2 &gt;r1+r2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914400" y="2438280"/>
          <a:ext cx="777240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772400" cy="3990960"/>
                  </a:xfrm>
                  <a:prstGeom prst="rect">
                    <a:avLst/>
                  </a:prstGeom>
                  <a:ln w="936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) okręgi są styczne zewnętrznie</a:t>
            </a:r>
            <a:br>
              <a:rPr sz="4000"/>
            </a:b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( O1O2 =r1+r2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1908000" y="1828800"/>
          <a:ext cx="5937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828800"/>
                    <a:ext cx="5937480" cy="4114800"/>
                  </a:xfrm>
                  <a:prstGeom prst="rect">
                    <a:avLst/>
                  </a:prstGeom>
                  <a:ln w="2844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3) okręgi przecinają się </a:t>
            </a:r>
            <a:br>
              <a:rPr sz="4000"/>
            </a:b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( r1-r2 &lt; O1O2 &lt;r1+r2)</a:t>
            </a:r>
            <a:r>
              <a:rPr b="0" lang="pl-PL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2122560" y="1828800"/>
          <a:ext cx="550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1828800"/>
                    <a:ext cx="5506920" cy="4114800"/>
                  </a:xfrm>
                  <a:prstGeom prst="rect">
                    <a:avLst/>
                  </a:prstGeom>
                  <a:ln w="28440">
                    <a:solidFill>
                      <a:srgbClr val="402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4) okręgi są styczne zewnętrznie</a:t>
            </a:r>
            <a:br>
              <a:rPr sz="4000"/>
            </a:b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( O1O2 = r1-r2 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2897280" y="1828800"/>
          <a:ext cx="3957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1828800"/>
                    <a:ext cx="3957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93d39c"/>
              </a:gs>
              <a:gs pos="50000">
                <a:srgbClr val="446248"/>
              </a:gs>
              <a:gs pos="100000">
                <a:srgbClr val="93d39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5) okręgi są rozłączne zewnętrznie </a:t>
            </a:r>
            <a:br>
              <a:rPr sz="4000"/>
            </a:br>
            <a:r>
              <a:rPr b="0" i="1" lang="pl-PL" sz="4000" spc="-1" strike="noStrike">
                <a:solidFill>
                  <a:srgbClr val="990033"/>
                </a:solidFill>
                <a:latin typeface="Times New Roman"/>
              </a:rPr>
              <a:t>( O1O2 &lt; r1-r2 &gt;=0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819520" y="2057400"/>
          <a:ext cx="4114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057400"/>
                    <a:ext cx="4114800" cy="4114800"/>
                  </a:xfrm>
                  <a:prstGeom prst="rect">
                    <a:avLst/>
                  </a:prstGeom>
                  <a:ln w="28440">
                    <a:solidFill>
                      <a:srgbClr val="402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440ebe"/>
                </a:solidFill>
                <a:latin typeface="Times New Roman"/>
              </a:rPr>
              <a:t>Kąt środkowy wypukł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2254320" y="1828800"/>
          <a:ext cx="5243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4320" y="1828800"/>
                    <a:ext cx="5243400" cy="4114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440ebe"/>
                </a:solidFill>
                <a:latin typeface="Times New Roman"/>
              </a:rPr>
              <a:t>Kąt środkowy wklęsł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514600" y="2057400"/>
          <a:ext cx="4697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057400"/>
                    <a:ext cx="4697280" cy="4114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5f5e2f"/>
              </a:gs>
              <a:gs pos="50000">
                <a:srgbClr val="cdcb65"/>
              </a:gs>
              <a:gs pos="100000">
                <a:srgbClr val="5f5e2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ca309"/>
                </a:solidFill>
                <a:latin typeface="Times New Roman"/>
              </a:rPr>
              <a:t>Twierdzenie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 u="sng">
                <a:solidFill>
                  <a:srgbClr val="0e7b0b"/>
                </a:solidFill>
                <a:uFillTx/>
                <a:latin typeface="Times New Roman"/>
              </a:rPr>
              <a:t>”</a:t>
            </a:r>
            <a:r>
              <a:rPr b="0" i="1" lang="pl-PL" sz="2800" spc="-1" strike="noStrike" u="sng">
                <a:solidFill>
                  <a:srgbClr val="0e7b0b"/>
                </a:solidFill>
                <a:uFillTx/>
                <a:latin typeface="Times New Roman"/>
              </a:rPr>
              <a:t>Jeśli kąt wpisany i kąt środkowy są oparte na tym samym łuku, to kąt środkowy jest dwa razy większy od kąta wpisanego.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4800600" y="2057400"/>
          <a:ext cx="380988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057400"/>
                    <a:ext cx="3809880" cy="31575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7772400" cy="1143000"/>
          </a:xfrm>
          <a:prstGeom prst="rect">
            <a:avLst/>
          </a:prstGeom>
          <a:gradFill rotWithShape="0">
            <a:gsLst>
              <a:gs pos="0">
                <a:srgbClr val="93d39c"/>
              </a:gs>
              <a:gs pos="50000">
                <a:srgbClr val="446248"/>
              </a:gs>
              <a:gs pos="100000">
                <a:srgbClr val="93d39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8000"/>
                </a:solidFill>
                <a:latin typeface="Times New Roman"/>
              </a:rPr>
              <a:t>Wielokąty wpisane w okrąg i opisane  na okręgu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 u="sng">
                <a:solidFill>
                  <a:srgbClr val="ce9964"/>
                </a:solidFill>
                <a:uFillTx/>
                <a:latin typeface="Times New Roman"/>
              </a:rPr>
              <a:t>Definicja koła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a08366"/>
                </a:solidFill>
                <a:latin typeface="Times New Roman"/>
              </a:rPr>
              <a:t>Kołem 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o środku w punkcie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O 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i promieniu długości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r&gt;0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 nazywamy zbiór wszystkich punktów płaszczyzny, których odległość od punktu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 jest mniejsza lub równa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r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.</a:t>
            </a:r>
            <a:r>
              <a:rPr b="0" i="1" lang="pl-PL" sz="28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Oval 7"/>
          <p:cNvSpPr/>
          <p:nvPr/>
        </p:nvSpPr>
        <p:spPr>
          <a:xfrm>
            <a:off x="5943600" y="3124080"/>
            <a:ext cx="1981080" cy="198144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>
            <a:off x="6934320" y="4114800"/>
            <a:ext cx="609480" cy="762120"/>
          </a:xfrm>
          <a:prstGeom prst="line">
            <a:avLst/>
          </a:prstGeom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69168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402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7224840" y="41529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W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ce9964"/>
              </a:gs>
              <a:gs pos="100000">
                <a:srgbClr val="5f472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3300"/>
                </a:solidFill>
                <a:latin typeface="Times New Roman"/>
              </a:rPr>
              <a:t>Wielokąt wpisany w okrą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a8a28"/>
                </a:solidFill>
                <a:latin typeface="Times New Roman"/>
              </a:rPr>
              <a:t>Wielokąt jest wpisany w okrąg, jeżeli każdy wierzchołek wielokąta leży na okręgu. O okręgu mówimy wówczas, że jest opisany na wielokąci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4800600" y="1981080"/>
          <a:ext cx="380988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30672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ce9964"/>
              </a:gs>
              <a:gs pos="100000">
                <a:srgbClr val="5f472e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3300"/>
                </a:solidFill>
                <a:latin typeface="Times New Roman"/>
              </a:rPr>
              <a:t>Okrąg wpisany w wieloką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a8a28"/>
                </a:solidFill>
                <a:latin typeface="Times New Roman"/>
              </a:rPr>
              <a:t>Wielokąt jest opisany na okręgu, jeżeli każdy bok wielokąta jest styczny do okręgu. O okręgu mówimy wtedy,że jest wpisany w wieloką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4800600" y="1828800"/>
          <a:ext cx="38098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3809880" cy="3546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133b05"/>
                </a:solidFill>
                <a:latin typeface="Times New Roman"/>
              </a:rPr>
              <a:t>Okrąg wpisany w czworoką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1143000" y="2057400"/>
          <a:ext cx="380988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3809880" cy="33195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2000"/>
                </a:solidFill>
                <a:latin typeface="Times New Roman"/>
              </a:rPr>
              <a:t>Twierdzenie: </a:t>
            </a:r>
            <a:r>
              <a:rPr b="0" i="1" lang="pl-PL" sz="2800" spc="-1" strike="noStrike" u="sng">
                <a:solidFill>
                  <a:srgbClr val="449e28"/>
                </a:solidFill>
                <a:uFillTx/>
                <a:latin typeface="Times New Roman"/>
              </a:rPr>
              <a:t>„ Jeśli okrąg jest wpisany w czworokąt, to suma długości przeciwległych boków tego czworokąta są równe.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0066"/>
                </a:solidFill>
                <a:latin typeface="Times New Roman"/>
              </a:rPr>
              <a:t>Okrąg opisany na czworokąci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1001880" y="1828800"/>
          <a:ext cx="3786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1828800"/>
                    <a:ext cx="3786120" cy="41148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2000"/>
                </a:solidFill>
                <a:latin typeface="Times New Roman"/>
              </a:rPr>
              <a:t>Twierdzenie: </a:t>
            </a:r>
            <a:r>
              <a:rPr b="0" i="1" lang="pl-PL" sz="2800" spc="-1" strike="noStrike" u="sng">
                <a:solidFill>
                  <a:srgbClr val="472fd7"/>
                </a:solidFill>
                <a:uFillTx/>
                <a:latin typeface="Times New Roman"/>
              </a:rPr>
              <a:t>„Jeżeli okrąg jest opisany na czworokącie, to sumy kątów przeciwległych czworokąta są równe i wynoszą 180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ce9964"/>
                </a:solidFill>
                <a:latin typeface="Times New Roman"/>
              </a:rPr>
              <a:t>Definicja okręgu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800000"/>
                </a:solidFill>
                <a:latin typeface="Times New Roman"/>
              </a:rPr>
              <a:t>Okręgiem</a:t>
            </a:r>
            <a:r>
              <a:rPr b="1" i="1" lang="pl-PL" sz="28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o środku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 i promieniu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r&gt;O 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nazywamy zbiór wszystkich punktów płaszczyzny, których odległość od punktu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 wynosi </a:t>
            </a:r>
            <a:r>
              <a:rPr b="0" i="1" lang="pl-PL" sz="2800" spc="-1" strike="noStrike">
                <a:solidFill>
                  <a:srgbClr val="996633"/>
                </a:solidFill>
                <a:latin typeface="Times New Roman"/>
              </a:rPr>
              <a:t>r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Object 5" descr=""/>
          <p:cNvPicPr/>
          <p:nvPr/>
        </p:nvPicPr>
        <p:blipFill>
          <a:blip r:embed="rId1"/>
          <a:stretch/>
        </p:blipFill>
        <p:spPr>
          <a:xfrm>
            <a:off x="4952880" y="2424240"/>
            <a:ext cx="3810240" cy="2922480"/>
          </a:xfrm>
          <a:prstGeom prst="rect">
            <a:avLst/>
          </a:prstGeom>
          <a:ln w="28440">
            <a:solidFill>
              <a:srgbClr val="402000"/>
            </a:solidFill>
            <a:miter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996633"/>
                </a:solidFill>
                <a:latin typeface="Times New Roman"/>
              </a:rPr>
              <a:t>W kole i okręgu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ażdy odcinek, którego jednym końcem jest środek</a:t>
            </a:r>
            <a:r>
              <a:rPr b="0" i="1" lang="pl-PL" sz="2400" spc="-1" strike="noStrike">
                <a:solidFill>
                  <a:srgbClr val="402000"/>
                </a:solidFill>
                <a:latin typeface="Times New Roman"/>
              </a:rPr>
              <a:t> O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okręgu, a drugi leży na okręgu, nazywamy promieniem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szystkie promienie są równej długości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ażdy odcinek, którego końce leżą na okręgu, nazywamy cięciwą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ięciwę, do której należy środek okręgu, nazywamy średnicą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ażdą część okręgu zawartą między dwoma jego punktami, nazywamy łukiem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41911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76472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800000"/>
                </a:solidFill>
                <a:latin typeface="Times New Roman"/>
              </a:rPr>
              <a:t>Położenie prostej i okręgu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137160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1) prosta ma dokładnie jeden punkt wspólny z okręgiem;</a:t>
            </a:r>
            <a:br>
              <a:rPr sz="3200"/>
            </a:b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660066"/>
                </a:solidFill>
                <a:latin typeface="Times New Roman"/>
              </a:rPr>
              <a:t>Twierdzenie: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 „Jeżeli prosta </a:t>
            </a:r>
            <a:r>
              <a:rPr b="0" i="1" lang="pl-PL" sz="2800" spc="-1" strike="noStrike">
                <a:solidFill>
                  <a:srgbClr val="660066"/>
                </a:solidFill>
                <a:latin typeface="Times New Roman"/>
              </a:rPr>
              <a:t>k 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jest styczna do okręgu w punkcie </a:t>
            </a:r>
            <a:r>
              <a:rPr b="0" i="1" lang="pl-PL" sz="2800" spc="-1" strike="noStrike">
                <a:solidFill>
                  <a:srgbClr val="660066"/>
                </a:solidFill>
                <a:latin typeface="Times New Roman"/>
              </a:rPr>
              <a:t>A, 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to</a:t>
            </a:r>
            <a:r>
              <a:rPr b="0" i="1" lang="pl-PL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promień</a:t>
            </a:r>
            <a:r>
              <a:rPr b="0" i="1" lang="pl-PL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promień prowadzący do punktu styczności jest prostopadły do prostej</a:t>
            </a:r>
            <a:r>
              <a:rPr b="0" i="1" lang="pl-PL" sz="2800" spc="-1" strike="noStrike">
                <a:solidFill>
                  <a:srgbClr val="660066"/>
                </a:solidFill>
                <a:latin typeface="Times New Roman"/>
              </a:rPr>
              <a:t> k</a:t>
            </a:r>
            <a:r>
              <a:rPr b="0" lang="pl-PL" sz="2800" spc="-1" strike="noStrike">
                <a:solidFill>
                  <a:srgbClr val="660066"/>
                </a:solidFill>
                <a:latin typeface="Times New Roman"/>
              </a:rPr>
              <a:t>.”</a:t>
            </a:r>
            <a:r>
              <a:rPr b="0" lang="pl-PL" sz="28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5486400" y="2762280"/>
          <a:ext cx="289548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762280"/>
                    <a:ext cx="2895480" cy="23986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Times New Roman"/>
              </a:rPr>
              <a:t>2) prosta ma dokładnie dwa punkty wspólne z okręgiem;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2093760" y="1828800"/>
          <a:ext cx="5565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1828800"/>
                    <a:ext cx="5565960" cy="41148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Times New Roman"/>
              </a:rPr>
              <a:t>3) prosta nie ma punktów wspólnych z okręgiem;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2286000" y="1828800"/>
          <a:ext cx="47401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28800"/>
                    <a:ext cx="4740120" cy="42670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9900"/>
                </a:solidFill>
                <a:latin typeface="Times New Roman"/>
              </a:rPr>
              <a:t>Twierdzenie o odcinkach stycz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e8a5b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4e8a5b"/>
                </a:solidFill>
                <a:latin typeface="Times New Roman"/>
              </a:rPr>
              <a:t>Odcinki dwóch stycznych poprowadzonych do okręgu z punktu zewnętrznego, wyznaczone przez ten punkt i odpowiednie punkty styczności, są równej długości.”</a:t>
            </a:r>
            <a:r>
              <a:rPr b="0" lang="pl-P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4952880" y="2471760"/>
          <a:ext cx="381024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471760"/>
                    <a:ext cx="381024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07:33:16Z</dcterms:created>
  <dc:creator>Xxx</dc:creator>
  <dc:description/>
  <dc:language>en-US</dc:language>
  <cp:lastModifiedBy>Hanna Kargol</cp:lastModifiedBy>
  <dcterms:modified xsi:type="dcterms:W3CDTF">2009-08-05T17:52:18Z</dcterms:modified>
  <cp:revision>4</cp:revision>
  <dc:subject/>
  <dc:title>Koło i okrąg.</dc:title>
</cp:coreProperties>
</file>