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ARAT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  <p:custShowLst>
    <p:custShow name="Pokaz 1" id="0">
      <p:sldLst>
        <p:sld r:id="rId5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A0D1-EE90-47E5-9901-5D41BEADA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2937-2DBA-4B56-B872-AFB3A1DA0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3AE7-0A8E-4D22-8BE7-E99229EA1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922A-C90D-4A94-8B8C-53D7E9FD1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BC74-0520-4C43-9789-D6A6F2CB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F58D4-E64A-43BF-A90A-9218EB9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E1C39-A62E-4F48-A349-C16AFF9C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C9CC5-ECD9-43BA-AF0A-2BD90786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A75C0-E92F-4879-A633-7F786EA4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34AA8-0346-4F40-9CF2-00DBAC1E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F802E-4AA0-4226-8E55-828882C6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6490-C209-4187-98F8-4076347AA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F226D-F8DA-493F-AA67-F408F3BE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4DC2F-196A-4B36-AC6F-BE57D25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7863B-CB1D-4278-8348-31BAF6F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F265E-BC8C-4CBA-BA4C-2D1CC0A8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4B3F4-F760-43B6-82BA-872131D3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EB21-7271-40F5-AF9D-EA3AAC081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15ED-6C87-4794-B377-5AD4A8EA5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C776-15CB-4543-B382-639BE66D2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43A2-D31B-4871-A68B-5C53DA3C5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A534-75F1-452E-8AC5-8209B9891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788F-6E76-4A72-8FAD-89085EEA2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3A8A-4A8B-49F0-A4C7-0B3AE3BF5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f8f8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58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737373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3"/>
          <p:cNvSpPr/>
          <p:nvPr/>
        </p:nvSpPr>
        <p:spPr>
          <a:xfrm>
            <a:off x="5754600" y="5257800"/>
            <a:ext cx="3389400" cy="6858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>
                  <a:alpha val="50196"/>
                </a:srgbClr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6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7601-D83F-4397-BA61-2E5578580EB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rc 55"/>
          <p:cNvSpPr/>
          <p:nvPr/>
        </p:nvSpPr>
        <p:spPr>
          <a:xfrm flipH="1">
            <a:off x="5718960" y="3240"/>
            <a:ext cx="3429000" cy="685152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6851520"/>
              <a:gd name="textAreaBottom" fmla="*/ 6851880 h 6851520"/>
            </a:gdLst>
            <a:ahLst/>
            <a:rect l="textAreaLeft" t="textAreaTop" r="textAreaRight" b="textAreaBottom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rc 68"/>
          <p:cNvSpPr/>
          <p:nvPr/>
        </p:nvSpPr>
        <p:spPr>
          <a:xfrm flipV="1">
            <a:off x="6932520" y="-838800"/>
            <a:ext cx="2211480" cy="2361960"/>
          </a:xfrm>
          <a:custGeom>
            <a:avLst/>
            <a:gdLst>
              <a:gd name="textAreaLeft" fmla="*/ 0 w 2211480"/>
              <a:gd name="textAreaRight" fmla="*/ 2211840 w 2211480"/>
              <a:gd name="textAreaTop" fmla="*/ -360 h 2361960"/>
              <a:gd name="textAreaBottom" fmla="*/ 2361960 h 2361960"/>
            </a:gdLst>
            <a:ahLst/>
            <a:rect l="textAreaLeft" t="textAreaTop" r="textAreaRight" b="textAreaBottom"/>
            <a:pathLst>
              <a:path fill="none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</a:path>
              <a:path stroke="0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  <a:lnTo>
                  <a:pt x="20223" y="21599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9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70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71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f8f8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>
                  <a:alpha val="50196"/>
                </a:srgbClr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7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3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Rectangle 10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9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0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1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2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Freeform 50"/>
          <p:cNvSpPr/>
          <p:nvPr/>
        </p:nvSpPr>
        <p:spPr>
          <a:xfrm>
            <a:off x="187200" y="404640"/>
            <a:ext cx="7489800" cy="5542200"/>
          </a:xfrm>
          <a:custGeom>
            <a:avLst/>
            <a:gdLst>
              <a:gd name="textAreaLeft" fmla="*/ 0 w 7489800"/>
              <a:gd name="textAreaRight" fmla="*/ 7490160 w 7489800"/>
              <a:gd name="textAreaTop" fmla="*/ 0 h 5542200"/>
              <a:gd name="textAreaBottom" fmla="*/ 5542560 h 5542200"/>
            </a:gdLst>
            <a:ahLst/>
            <a:rect l="textAreaLeft" t="textAreaTop" r="textAreaRight" b="textAreaBottom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1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rc 42"/>
          <p:cNvSpPr/>
          <p:nvPr/>
        </p:nvSpPr>
        <p:spPr>
          <a:xfrm flipH="1">
            <a:off x="5866560" y="3240"/>
            <a:ext cx="3429000" cy="685152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6851520"/>
              <a:gd name="textAreaBottom" fmla="*/ 6851880 h 6851520"/>
            </a:gdLst>
            <a:ahLst/>
            <a:rect l="textAreaLeft" t="textAreaTop" r="textAreaRight" b="textAreaBottom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CFA-89D7-4C8B-8960-BA4E59F605A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audio" Target="../media/APARAT.WAV"/><Relationship Id="rId3" Type="http://schemas.openxmlformats.org/officeDocument/2006/relationships/audio" Target="../media/APARAT.WAV"/><Relationship Id="rId4" Type="http://schemas.openxmlformats.org/officeDocument/2006/relationships/audio" Target="../media/APARAT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APARAT.WAV"/><Relationship Id="rId5" Type="http://schemas.openxmlformats.org/officeDocument/2006/relationships/audio" Target="../media/APARAT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236000" y="6356520"/>
            <a:ext cx="1908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t">
            <a:noAutofit/>
          </a:bodyPr>
          <a:p>
            <a:pPr lvl="1" marL="1144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075B-F473-4046-8243-074B15539C2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 Narrow"/>
              </a:rPr>
              <a:t>Przekształcanie wykresów funkcji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na Karg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uczycielka Zespołu Szkół Rolnicze Centrum Kształcenia Ustawicznego w Siedlc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055">
            <a:hlinkClick r:id="" action="ppaction://hlinkshowjump?jump=nextslide"/>
          </p:cNvPr>
          <p:cNvSpPr/>
          <p:nvPr/>
        </p:nvSpPr>
        <p:spPr>
          <a:xfrm>
            <a:off x="1066680" y="5638680"/>
            <a:ext cx="586080" cy="586080"/>
          </a:xfrm>
          <a:custGeom>
            <a:avLst/>
            <a:gdLst>
              <a:gd name="textAreaLeft" fmla="*/ 37800 w 586080"/>
              <a:gd name="textAreaRight" fmla="*/ 548280 w 58608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325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925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ymbol zastępczy numeru slajdu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8D85-7DDF-4F17-9C2C-737954A4B6D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Zadanie 1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Na podstawie danego wykresu funkcji y=f(x) odczytaj następujące jej własności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5402"/>
                </a:moveTo>
                <a:lnTo>
                  <a:pt x="17806" y="12408"/>
                </a:lnTo>
                <a:lnTo>
                  <a:pt x="3794" y="19415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>
            <a:hlinkClick r:id="" action="ppaction://hlinkshowjump?jump=previousslide"/>
          </p:cNvPr>
          <p:cNvSpPr/>
          <p:nvPr/>
        </p:nvSpPr>
        <p:spPr>
          <a:xfrm>
            <a:off x="22860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12408"/>
                </a:moveTo>
                <a:lnTo>
                  <a:pt x="17806" y="5402"/>
                </a:lnTo>
                <a:lnTo>
                  <a:pt x="17806" y="19415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7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359892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 Box 1276"/>
          <p:cNvSpPr/>
          <p:nvPr/>
        </p:nvSpPr>
        <p:spPr>
          <a:xfrm>
            <a:off x="4876920" y="1752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Dziedzin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77"/>
          <p:cNvSpPr/>
          <p:nvPr/>
        </p:nvSpPr>
        <p:spPr>
          <a:xfrm>
            <a:off x="1066680" y="4343400"/>
            <a:ext cx="2525760" cy="1440"/>
          </a:xfrm>
          <a:custGeom>
            <a:avLst/>
            <a:gdLst>
              <a:gd name="textAreaLeft" fmla="*/ 0 w 2525760"/>
              <a:gd name="textAreaRight" fmla="*/ 2526120 w 2525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728" h="1">
                <a:moveTo>
                  <a:pt x="0" y="0"/>
                </a:moveTo>
                <a:lnTo>
                  <a:pt x="1728" y="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78"/>
          <p:cNvSpPr/>
          <p:nvPr/>
        </p:nvSpPr>
        <p:spPr>
          <a:xfrm>
            <a:off x="5105520" y="20574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D=&lt;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4 ; 3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79"/>
          <p:cNvSpPr/>
          <p:nvPr/>
        </p:nvSpPr>
        <p:spPr>
          <a:xfrm>
            <a:off x="487692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biór wart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80"/>
          <p:cNvSpPr/>
          <p:nvPr/>
        </p:nvSpPr>
        <p:spPr>
          <a:xfrm>
            <a:off x="2590920" y="3657600"/>
            <a:ext cx="0" cy="1263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81"/>
          <p:cNvSpPr/>
          <p:nvPr/>
        </p:nvSpPr>
        <p:spPr>
          <a:xfrm>
            <a:off x="5181480" y="28954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W=&lt;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2;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82"/>
          <p:cNvSpPr/>
          <p:nvPr/>
        </p:nvSpPr>
        <p:spPr>
          <a:xfrm>
            <a:off x="48769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8000"/>
                </a:solidFill>
                <a:latin typeface="Arial"/>
              </a:rPr>
              <a:t>Miejsca zer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287"/>
          <p:cNvGrpSpPr/>
          <p:nvPr/>
        </p:nvGrpSpPr>
        <p:grpSpPr>
          <a:xfrm>
            <a:off x="990720" y="4191120"/>
            <a:ext cx="2438280" cy="228600"/>
            <a:chOff x="990720" y="4191120"/>
            <a:chExt cx="2438280" cy="228600"/>
          </a:xfrm>
        </p:grpSpPr>
        <p:sp>
          <p:nvSpPr>
            <p:cNvPr id="134" name="Oval 1284"/>
            <p:cNvSpPr/>
            <p:nvPr/>
          </p:nvSpPr>
          <p:spPr>
            <a:xfrm>
              <a:off x="3173400" y="4191120"/>
              <a:ext cx="255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85"/>
            <p:cNvSpPr/>
            <p:nvPr/>
          </p:nvSpPr>
          <p:spPr>
            <a:xfrm>
              <a:off x="2438280" y="4191120"/>
              <a:ext cx="255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286"/>
            <p:cNvSpPr/>
            <p:nvPr/>
          </p:nvSpPr>
          <p:spPr>
            <a:xfrm>
              <a:off x="990720" y="4191120"/>
              <a:ext cx="255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288"/>
          <p:cNvSpPr/>
          <p:nvPr/>
        </p:nvSpPr>
        <p:spPr>
          <a:xfrm>
            <a:off x="5029200" y="3581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x</a:t>
            </a:r>
            <a:r>
              <a:rPr b="0" lang="pl-PL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  <a:ea typeface="Arial"/>
              </a:rPr>
              <a:t>–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4   x</a:t>
            </a:r>
            <a:r>
              <a:rPr b="0" lang="pl-PL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= 0   x</a:t>
            </a:r>
            <a:r>
              <a:rPr b="0" lang="pl-PL" sz="20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006600"/>
                </a:solidFill>
                <a:latin typeface="Arial"/>
              </a:rPr>
              <a:t> 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89"/>
          <p:cNvSpPr/>
          <p:nvPr/>
        </p:nvSpPr>
        <p:spPr>
          <a:xfrm>
            <a:off x="495288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artości dodat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90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359892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294"/>
          <p:cNvGrpSpPr/>
          <p:nvPr/>
        </p:nvGrpSpPr>
        <p:grpSpPr>
          <a:xfrm>
            <a:off x="1066680" y="4343400"/>
            <a:ext cx="2514600" cy="0"/>
            <a:chOff x="1066680" y="4343400"/>
            <a:chExt cx="2514600" cy="0"/>
          </a:xfrm>
        </p:grpSpPr>
        <p:sp>
          <p:nvSpPr>
            <p:cNvPr id="141" name="Line 1292"/>
            <p:cNvSpPr/>
            <p:nvPr/>
          </p:nvSpPr>
          <p:spPr>
            <a:xfrm>
              <a:off x="1066680" y="4343400"/>
              <a:ext cx="1494000" cy="0"/>
            </a:xfrm>
            <a:prstGeom prst="line">
              <a:avLst/>
            </a:prstGeom>
            <a:ln w="572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93"/>
            <p:cNvSpPr/>
            <p:nvPr/>
          </p:nvSpPr>
          <p:spPr>
            <a:xfrm>
              <a:off x="3308400" y="4343400"/>
              <a:ext cx="272880" cy="0"/>
            </a:xfrm>
            <a:prstGeom prst="line">
              <a:avLst/>
            </a:prstGeom>
            <a:ln w="5724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95"/>
          <p:cNvSpPr/>
          <p:nvPr/>
        </p:nvSpPr>
        <p:spPr>
          <a:xfrm>
            <a:off x="5029200" y="4343400"/>
            <a:ext cx="3429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f(x)&gt;0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-4;0)</a:t>
            </a:r>
            <a:r>
              <a:rPr b="0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2;3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96"/>
          <p:cNvSpPr/>
          <p:nvPr/>
        </p:nvSpPr>
        <p:spPr>
          <a:xfrm>
            <a:off x="4952880" y="47242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99ff"/>
                </a:solidFill>
                <a:latin typeface="Arial"/>
              </a:rPr>
              <a:t>wartości ujem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97" descr=""/>
          <p:cNvPicPr/>
          <p:nvPr/>
        </p:nvPicPr>
        <p:blipFill>
          <a:blip r:embed="rId3"/>
          <a:stretch/>
        </p:blipFill>
        <p:spPr>
          <a:xfrm>
            <a:off x="762120" y="2743200"/>
            <a:ext cx="3598920" cy="3152880"/>
          </a:xfrm>
          <a:prstGeom prst="rect">
            <a:avLst/>
          </a:prstGeom>
          <a:ln w="0">
            <a:noFill/>
          </a:ln>
        </p:spPr>
      </p:pic>
      <p:sp>
        <p:nvSpPr>
          <p:cNvPr id="146" name="Line 1298"/>
          <p:cNvSpPr/>
          <p:nvPr/>
        </p:nvSpPr>
        <p:spPr>
          <a:xfrm>
            <a:off x="2590920" y="4343400"/>
            <a:ext cx="69516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99"/>
          <p:cNvSpPr/>
          <p:nvPr/>
        </p:nvSpPr>
        <p:spPr>
          <a:xfrm>
            <a:off x="5029200" y="5105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f(x)&lt;0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0;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AR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2:32:58Z</dcterms:created>
  <dc:creator>K</dc:creator>
  <dc:description/>
  <dc:language>en-US</dc:language>
  <cp:lastModifiedBy>user</cp:lastModifiedBy>
  <dcterms:modified xsi:type="dcterms:W3CDTF">2010-11-08T07:28:42Z</dcterms:modified>
  <cp:revision>19</cp:revision>
  <dc:subject/>
  <dc:title>Przekształcanie wykresów funkcji.</dc:title>
</cp:coreProperties>
</file>