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922-AF05-46E4-B6C3-A8C9280F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ED30-F168-40B8-ADA7-9F481479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FC4-AC69-44F3-8A13-F2551A34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C5A-7568-422D-A043-37A5BAD5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DF8B-CCE7-4279-B78D-3535A6C9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9A6A-0D9A-4400-B2BE-9A07B622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8754-5ABC-49A5-B389-A02B10C1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45F7-DDBB-4ACE-B29A-349C65A0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8EBE-5364-4D46-A10E-F56B44D3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ED2F-7537-484D-953A-F461B63A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DA6F-DC16-46D7-AB1C-3ACD19D0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B36-9888-4C5B-9CD0-980F4D68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B7C8-E6BC-4D15-8881-1169A6AC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2BCC-05F6-4EED-BD65-2669EC54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5A6D-EF65-46E4-902F-28C65469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F7D6-5798-41E6-8AFE-39AF038C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9402-0CC2-4A60-87DB-9473E4DE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225-E836-4128-9446-35A65F6E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ED2-2021-4E3F-9522-4B54B0AF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C51-F509-4C3C-8EEA-B666B4BC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881-7DB5-4FE6-986C-4AFB511F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47D-A70A-43F6-A19B-AD5AFC50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A07-2EC3-422B-A38E-8B28ED84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645-ACB4-438B-ACF6-F195DB1E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0F42-E90D-49A2-A62E-7A87850CB70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FE8C-7CCC-4174-B49D-D3F2C8F9F38E}" type="slidenum"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8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24.xml"/><Relationship Id="rId4" Type="http://schemas.openxmlformats.org/officeDocument/2006/relationships/slide" Target="slide18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19.xml"/><Relationship Id="rId9" Type="http://schemas.openxmlformats.org/officeDocument/2006/relationships/slide" Target="slide26.xml"/><Relationship Id="rId10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13.xml"/><Relationship Id="rId15" Type="http://schemas.openxmlformats.org/officeDocument/2006/relationships/slide" Target="slide13.xml"/><Relationship Id="rId16" Type="http://schemas.openxmlformats.org/officeDocument/2006/relationships/slide" Target="slide13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0.xml"/><Relationship Id="rId20" Type="http://schemas.openxmlformats.org/officeDocument/2006/relationships/slide" Target="slide20.xml"/><Relationship Id="rId21" Type="http://schemas.openxmlformats.org/officeDocument/2006/relationships/slide" Target="slide20.xml"/><Relationship Id="rId22" Type="http://schemas.openxmlformats.org/officeDocument/2006/relationships/slide" Target="slide20.xml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21.xml"/><Relationship Id="rId11" Type="http://schemas.openxmlformats.org/officeDocument/2006/relationships/slide" Target="slide21.xml"/><Relationship Id="rId12" Type="http://schemas.openxmlformats.org/officeDocument/2006/relationships/slide" Target="slide21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" Target="slide15.xml"/><Relationship Id="rId5" Type="http://schemas.openxmlformats.org/officeDocument/2006/relationships/image" Target="../media/image13.wmf"/><Relationship Id="rId6" Type="http://schemas.openxmlformats.org/officeDocument/2006/relationships/slide" Target="slide22.xml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Przekształcanie wykresów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Wykresy funkcji y=|f(x)| i y=f(|x|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ezentację przygotowała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mgr Hanna Karg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ka Zespołu Szkó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Rolnicze Centrum Kształcenia Ustawiczneg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w Siedlc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153280" y="541008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3591000" cy="3571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066680" y="2133720"/>
            <a:ext cx="3591000" cy="3571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066680" y="2133720"/>
            <a:ext cx="3591000" cy="3571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800600" y="32767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Funkcję o takiej własności nazywamy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66ff66"/>
                </a:solidFill>
                <a:latin typeface="Tahoma"/>
              </a:rPr>
              <a:t>FUNKCJĄ PARZYST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8534520" y="6210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0" y="6318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1066680" y="2133720"/>
            <a:ext cx="3591000" cy="35719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Wykres funkcji y=f(|x|)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619440" y="44193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14640" y="4495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548640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6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4038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548640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6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819680" y="4262400"/>
            <a:ext cx="2514600" cy="2500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248520" y="1828800"/>
            <a:ext cx="2361960" cy="2351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429000" y="1828800"/>
            <a:ext cx="2362320" cy="23493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Zadanie 4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Dany jest wykres funkcji y=f(x). Który z podanych niżej wykresów A , B czy C jest wykresem funkcji y=f(|x|) ?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(kliknij myszką odpowiedni wykres)</a:t>
            </a:r>
            <a:endParaRPr b="0" lang="en-US" sz="2000" spc="-1" strike="noStrike">
              <a:solidFill>
                <a:srgbClr val="00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04920" y="1752480"/>
            <a:ext cx="2895480" cy="2793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981080" y="36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9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9500"/>
                            </p:stCondLst>
                            <p:childTnLst>
                              <p:par>
                                <p:cTn id="45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Odpowiedz na poniższe pytania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(kliknij poprawną odpowiedź myszką):</a:t>
            </a:r>
            <a:endParaRPr b="0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44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5. Wykres funkcji y=f(|x|) jest :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133720"/>
            <a:ext cx="3962160" cy="703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.Symetryczny względem osi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895480"/>
            <a:ext cx="3886200" cy="44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B.Symetryczny względem osi 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3657600"/>
            <a:ext cx="3276720" cy="44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C. Nie ma osi symet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152388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6. Dana jest funkcja y=f(x). Jej dziedziną i zbiorem wartości jest zbiór R. Wówczas wykres funkcji y=f(|x|) pokrywa się z wykresem funkcji y=f(x)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124080"/>
            <a:ext cx="3200400" cy="44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4" action="ppaction://hlinksldjump"/>
              </a:rPr>
              <a:t>A.  Dla  x   nieujem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733920"/>
            <a:ext cx="3124080" cy="44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5" action="ppaction://hlinksldjump"/>
              </a:rPr>
              <a:t>B.   Dla  y   nieujem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4267080"/>
            <a:ext cx="3505320" cy="44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6" action="ppaction://hlinksldjump"/>
              </a:rPr>
              <a:t>C  Nigdy się nie pokrywaj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7242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7. Dana jest funkcja y=f(x). Jej dziedziną i zbiorem wartości jest zbiór R. Wówczas wykres funkcji y=|f(x)| pokrywa się z wykresem funkcji y=f(x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5791320"/>
            <a:ext cx="2666880" cy="44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7" action="ppaction://hlinksldjump"/>
              </a:rPr>
              <a:t>A.   Dla  x   nieujem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5791320"/>
            <a:ext cx="2743200" cy="44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8" action="ppaction://hlinksldjump"/>
              </a:rPr>
              <a:t>B.   Dla  y nieujem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5791320"/>
            <a:ext cx="3276720" cy="44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9" action="ppaction://hlinksldjump"/>
              </a:rPr>
              <a:t>C  Nigdy się   nie pokrywaj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500"/>
                            </p:stCondLst>
                            <p:childTnLst>
                              <p:par>
                                <p:cTn id="49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000"/>
                            </p:stCondLst>
                            <p:childTnLst>
                              <p:par>
                                <p:cTn id="50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7500"/>
                            </p:stCondLst>
                            <p:childTnLst>
                              <p:par>
                                <p:cTn id="512" nodeType="afterEffect" fill="hold" presetClass="entr" presetID="17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53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540" nodeType="afterEffect" fill="hold" presetClass="entr" presetID="1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3000"/>
                            </p:stCondLst>
                            <p:childTnLst>
                              <p:par>
                                <p:cTn id="54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4500"/>
                            </p:stCondLst>
                            <p:childTnLst>
                              <p:par>
                                <p:cTn id="55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6000"/>
                            </p:stCondLst>
                            <p:childTnLst>
                              <p:par>
                                <p:cTn id="56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ffff"/>
                </a:solidFill>
                <a:latin typeface="Tahoma"/>
              </a:rPr>
              <a:t>Zadanie 1 - BRAWO</a:t>
            </a:r>
            <a:endParaRPr b="0" lang="en-US" sz="4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4792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MASZ 1 PUN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5257800"/>
            <a:ext cx="3886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KLIKNIJ TUT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ffff"/>
                </a:solidFill>
                <a:latin typeface="Tahoma"/>
              </a:rPr>
              <a:t>Zadanie 2 - BRAWO</a:t>
            </a:r>
            <a:endParaRPr b="0" lang="en-US" sz="4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3047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MASZ 1 PUN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457200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ffff"/>
                </a:solidFill>
                <a:latin typeface="Tahoma"/>
              </a:rPr>
              <a:t>Zadanie 3 - BRAWO</a:t>
            </a:r>
            <a:endParaRPr b="0" lang="en-US" sz="4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MASZ 1 PUN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457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ffff"/>
                </a:solidFill>
                <a:latin typeface="Tahoma"/>
              </a:rPr>
              <a:t>Zadanie 4 - BRAWO</a:t>
            </a:r>
            <a:endParaRPr b="0" lang="en-US" sz="4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3504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MASZ 1 PUN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457200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ffff"/>
                </a:solidFill>
                <a:latin typeface="Tahoma"/>
              </a:rPr>
              <a:t>Zadanie 5 - BRAWO</a:t>
            </a:r>
            <a:endParaRPr b="0" lang="en-US" sz="4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3673800" y="364968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ASZ 1 PU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457200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ffff"/>
                </a:solidFill>
                <a:latin typeface="Tahoma"/>
              </a:rPr>
              <a:t>Zadanie 6 - BRAWO</a:t>
            </a:r>
            <a:endParaRPr b="0" lang="en-US" sz="4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597840" y="395460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ASZ 1 PU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457200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ffff"/>
                </a:solidFill>
                <a:latin typeface="Tahoma"/>
              </a:rPr>
              <a:t>Zadanie 7 - BRAWO</a:t>
            </a:r>
            <a:endParaRPr b="0" lang="en-US" sz="4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2666880"/>
            <a:ext cx="23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ASZ 1 PU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276720"/>
            <a:ext cx="84582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To już było ostatnie zadanie. Podsumuj uzyskane punk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liknij, aby dowiedzieć się jaką ocenę otrzymałaś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Wykres funkcji y=f(x)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Obok przedstawiony jest wykres funkcji y=f(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Dla jakich argumentów funkcja ta przyjmuje wartości nieujemne 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9120" y="1981080"/>
          <a:ext cx="360360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9120" y="1981080"/>
                    <a:ext cx="3603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724280" y="3809880"/>
            <a:ext cx="388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f(x)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0 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  x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(-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;-1&gt;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&lt;4;+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5029200"/>
            <a:ext cx="2895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Tahoma"/>
              </a:rPr>
              <a:t>f(x)&lt;0  </a:t>
            </a:r>
            <a:r>
              <a:rPr b="0" lang="pl-PL" sz="2000" spc="-1" strike="noStrike">
                <a:solidFill>
                  <a:srgbClr val="0033cc"/>
                </a:solidFill>
                <a:latin typeface="Symbol"/>
                <a:ea typeface="Symbol"/>
              </a:rPr>
              <a:t></a:t>
            </a:r>
            <a:r>
              <a:rPr b="0" lang="pl-PL" sz="2000" spc="-1" strike="noStrike">
                <a:solidFill>
                  <a:srgbClr val="0033cc"/>
                </a:solidFill>
                <a:latin typeface="Tahoma"/>
              </a:rPr>
              <a:t>  x</a:t>
            </a:r>
            <a:r>
              <a:rPr b="0" lang="pl-PL" sz="20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33cc"/>
                </a:solidFill>
                <a:latin typeface="Tahoma"/>
              </a:rPr>
              <a:t>(-1;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0" y="59436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604360" y="59436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9000" y="1981080"/>
          <a:ext cx="3533760" cy="4114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9000" y="1981080"/>
                    <a:ext cx="3533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029200" y="4419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a dla jakich ujemn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410080"/>
            <a:ext cx="1144440" cy="14400"/>
          </a:xfrm>
          <a:custGeom>
            <a:avLst/>
            <a:gdLst/>
            <a:ahLst/>
            <a:rect l="l" t="t" r="r" b="b"/>
            <a:pathLst>
              <a:path w="721" h="9">
                <a:moveTo>
                  <a:pt x="0" y="9"/>
                </a:moveTo>
                <a:lnTo>
                  <a:pt x="72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541008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5410080"/>
            <a:ext cx="60948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085840" y="4419720"/>
            <a:ext cx="752760" cy="1280880"/>
          </a:xfrm>
          <a:prstGeom prst="blockArc">
            <a:avLst>
              <a:gd name="adj1" fmla="val 12655393"/>
              <a:gd name="adj2" fmla="val 19744607"/>
              <a:gd name="adj3" fmla="val 0"/>
            </a:avLst>
          </a:prstGeom>
          <a:solidFill>
            <a:srgbClr val="0033cc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5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60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950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ZADANIE 1</a:t>
            </a:r>
            <a:br>
              <a:rPr sz="4400"/>
            </a:b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PRZYKRO MI - TO NIE JEST POPRAWNA ODPOWIEDŹ !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971800" y="388620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ZADANIE 2</a:t>
            </a:r>
            <a:br>
              <a:rPr sz="4400"/>
            </a:b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PRZYKRO MI - TO NIE JEST POPRAWNA ODPOWIEDŹ !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7760" y="426672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ZADANIE 3</a:t>
            </a:r>
            <a:br>
              <a:rPr sz="4400"/>
            </a:b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PRZYKRO MI - TO NIE JEST POPRAWNA ODPOWIEDŹ !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426708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ZADANIE 4</a:t>
            </a:r>
            <a:br>
              <a:rPr sz="4400"/>
            </a:b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PRZYKRO MI - TO NIE JEST POPRAWNA ODPOWIEDŹ !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426708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ZADANIE 5</a:t>
            </a:r>
            <a:br>
              <a:rPr sz="4400"/>
            </a:b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PRZYKRO MI - TO NIE JEST POPRAWNA ODPOWIEDŹ !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426708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ZADANIE 6</a:t>
            </a:r>
            <a:br>
              <a:rPr sz="4400"/>
            </a:b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PRZYKRO MI - TO NIE JEST POPRAWNA ODPOWIEDŹ !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426708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ZADANIE 7 </a:t>
            </a:r>
            <a:br>
              <a:rPr sz="4400"/>
            </a:b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PRZYKRO MI - TO NIE JEST POPRAWNA ODPOWIEDŹ !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To już było ostatnie zadanie. Podsumuj uzyskane punk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liknij   aby dowiedzieć się jaką ocenę otrzymała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26708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LIKNIJ TUT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ahoma"/>
              </a:rPr>
              <a:t>KATRA OCENY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eśli uzyskałaś  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7pkt.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 - jesteś świetna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(bd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eśli uzyskałaś  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6 lub 5pkt</a:t>
            </a:r>
            <a:r>
              <a:rPr b="0" lang="pl-PL" sz="2800" spc="-1" strike="noStrike">
                <a:solidFill>
                  <a:srgbClr val="66ff66"/>
                </a:solidFill>
                <a:latin typeface="Tahoma"/>
              </a:rPr>
              <a:t>.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 możesz cieszyć się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(db)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eśli uzyskałaś 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4pkt.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 Twoja uwaga nie była wystarczająco skupiona na omawianym temacie -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 (d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eśli uzyskałaś 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3pkt.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 Musisz więcej popracować nad funkcjami, nagromadziło Ci się trochę zaległości -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(dp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eśli uzyskałaś  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0 , 1 lub 2pkt.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- zacznij systematyczniej pracować, na pewno się poprawisz 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(nd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>
            <a:hlinkClick r:id="" action="ppaction://hlinkshowjump?jump=endshow"/>
          </p:cNvPr>
          <p:cNvSpPr/>
          <p:nvPr/>
        </p:nvSpPr>
        <p:spPr>
          <a:xfrm>
            <a:off x="8101080" y="581508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Wykres funkcji  y=|f(x)|  </a:t>
            </a:r>
            <a:br>
              <a:rPr sz="4400"/>
            </a:b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(f(x)</a:t>
            </a:r>
            <a:r>
              <a:rPr b="0" lang="pl-PL" sz="44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0)</a:t>
            </a:r>
            <a:endParaRPr b="0" lang="en-US" sz="4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95680" y="3123720"/>
            <a:ext cx="3810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Oznacza to,że dla argumentów, dla których funkcja jest nieujemna, wykres nie ulegnie zmiani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092560" y="2222640"/>
                <a:ext cx="2527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limLow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⇔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=========================</m:t>
                                </m:r>
                              </m:lim>
                            </m:limLow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6" name=""/>
          <p:cNvGraphicFramePr/>
          <p:nvPr/>
        </p:nvGraphicFramePr>
        <p:xfrm>
          <a:off x="380880" y="1981080"/>
          <a:ext cx="381024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981080"/>
                    <a:ext cx="38102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0" y="6318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604360" y="6318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ffff"/>
                </a:solidFill>
                <a:latin typeface="Tahoma"/>
              </a:rPr>
              <a:t>Wykres funkcji </a:t>
            </a:r>
            <a:br>
              <a:rPr sz="4000"/>
            </a:br>
            <a:r>
              <a:rPr b="0" lang="pl-PL" sz="4000" spc="-1" strike="noStrike">
                <a:solidFill>
                  <a:srgbClr val="ff0000"/>
                </a:solidFill>
                <a:latin typeface="Tahoma"/>
              </a:rPr>
              <a:t>y=|f(x)|  (f(x)&lt;0)</a:t>
            </a:r>
            <a:endParaRPr b="0" lang="en-US" sz="4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16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f(x)&lt;0  dla  x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(-1;4)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381880" y="598176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0" y="59436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05520" y="2146320"/>
                <a:ext cx="2501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648320" y="3733920"/>
            <a:ext cx="3962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i wówcz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y=|f(x)|=-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1905120"/>
          <a:ext cx="3516480" cy="4190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905120"/>
                    <a:ext cx="351648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209680" y="5067360"/>
          <a:ext cx="657360" cy="29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5067360"/>
                    <a:ext cx="65736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247840" y="5410080"/>
          <a:ext cx="638280" cy="30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47840" y="5410080"/>
                    <a:ext cx="6382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224080" y="5391000"/>
          <a:ext cx="657360" cy="32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24080" y="5391000"/>
                    <a:ext cx="6573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209680" y="5391000"/>
          <a:ext cx="638280" cy="362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391000"/>
                    <a:ext cx="6382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1905120"/>
          <a:ext cx="3867120" cy="4171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905120"/>
                    <a:ext cx="3867120" cy="41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Monotoniczność  funkcji y=|f(x)|  </a:t>
            </a:r>
            <a:r>
              <a:rPr b="0" lang="pl-PL" sz="2000" spc="-1" strike="noStrike">
                <a:solidFill>
                  <a:srgbClr val="00ffff"/>
                </a:solidFill>
                <a:latin typeface="Tahoma"/>
              </a:rPr>
              <a:t>Zadanie 1</a:t>
            </a:r>
            <a:endParaRPr b="0" lang="en-US" sz="2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Funkcja jest rosnąca w przedziała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Kliknij myszką prawidłową odpowied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2200" y="1828800"/>
          <a:ext cx="3984840" cy="4267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2200" y="1828800"/>
                    <a:ext cx="39848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4876920" y="3886200"/>
            <a:ext cx="37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7" action="ppaction://hlinksldjump"/>
              </a:rPr>
              <a:t>A. (-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8" action="ppaction://hlinksldjump"/>
              </a:rPr>
              <a:t>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9" action="ppaction://hlinksldjump"/>
              </a:rPr>
              <a:t>;-1) , (4;+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10" action="ppaction://hlinksldjump"/>
              </a:rPr>
              <a:t>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11" action="ppaction://hlinksldjump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57200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12" action="ppaction://hlinksldjump"/>
              </a:rPr>
              <a:t>B. 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13" action="ppaction://hlinksldjump"/>
              </a:rPr>
              <a:t>(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14" action="ppaction://hlinksldjump"/>
              </a:rPr>
              <a:t>-1;1,5) , (4;+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15" action="ppaction://hlinksldjump"/>
              </a:rPr>
              <a:t>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16" action="ppaction://hlinksldjump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52578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17" action="ppaction://hlinksldjump"/>
              </a:rPr>
              <a:t>C. 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hlinkClick r:id="rId18" action="ppaction://hlinksldjump"/>
              </a:rPr>
              <a:t>(-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19" action="ppaction://hlinksldjump"/>
              </a:rPr>
              <a:t>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20" action="ppaction://hlinksldjump"/>
              </a:rPr>
              <a:t>;0) , (4;+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21" action="ppaction://hlinksldjump"/>
              </a:rPr>
              <a:t>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22" action="ppaction://hlinksldjump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500"/>
                            </p:stCondLst>
                            <p:childTnLst>
                              <p:par>
                                <p:cTn id="216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ahoma"/>
              </a:rPr>
              <a:t>Monotoniczność  funkcji y=|f(x)|   </a:t>
            </a:r>
            <a:r>
              <a:rPr b="0" lang="pl-PL" sz="2000" spc="-1" strike="noStrike">
                <a:solidFill>
                  <a:srgbClr val="00ffff"/>
                </a:solidFill>
                <a:latin typeface="Tahoma"/>
              </a:rPr>
              <a:t>Zadanie 2</a:t>
            </a:r>
            <a:endParaRPr b="0" lang="en-US" sz="2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Funkcja jest malejąca w przedział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Kliknij myszką prawidłową odpowied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85880" y="1981080"/>
          <a:ext cx="361008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981080"/>
                    <a:ext cx="3610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800600" y="3581280"/>
            <a:ext cx="327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4" action="ppaction://hlinksldjump"/>
              </a:rPr>
              <a:t>A. (-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5" action="ppaction://hlinksldjump"/>
              </a:rPr>
              <a:t>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6" action="ppaction://hlinksldjump"/>
              </a:rPr>
              <a:t>;-1) , (1,5;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114800"/>
            <a:ext cx="3352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7" action="ppaction://hlinksldjump"/>
              </a:rPr>
              <a:t>B. 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8" action="ppaction://hlinksldjump"/>
              </a:rPr>
              <a:t>(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9" action="ppaction://hlinksldjump"/>
              </a:rPr>
              <a:t>-1;1,5) , (4;+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10" action="ppaction://hlinksldjump"/>
              </a:rPr>
              <a:t>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11" action="ppaction://hlinksldjump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632480"/>
            <a:ext cx="320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12" action="ppaction://hlinksldjump"/>
              </a:rPr>
              <a:t>C. 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hlinkClick r:id="rId13" action="ppaction://hlinksldjump"/>
              </a:rPr>
              <a:t>(-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14" action="ppaction://hlinksldjump"/>
              </a:rPr>
              <a:t>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15" action="ppaction://hlinksldjump"/>
              </a:rPr>
              <a:t>;0) , (4;+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Symbol"/>
                <a:ea typeface="Symbol"/>
                <a:hlinkClick r:id="rId16" action="ppaction://hlinksldjump"/>
              </a:rPr>
              <a:t></a:t>
            </a:r>
            <a:r>
              <a:rPr b="0" lang="pl-PL" sz="2000" spc="-1" strike="noStrike" u="sng">
                <a:solidFill>
                  <a:srgbClr val="99ccff"/>
                </a:solidFill>
                <a:uFillTx/>
                <a:latin typeface="Tahoma"/>
                <a:ea typeface="Symbol"/>
                <a:hlinkClick r:id="rId17" action="ppaction://hlinksldjump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Zadanie 3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Dany jest wykres funkcji y=f(x). Który z podanych niżej wykresów A , B czy C jest wykresem funkcji y=|f(x)| (kliknij odpowiedni wykres)</a:t>
            </a:r>
            <a:endParaRPr b="0" lang="en-US" sz="2000" spc="-1" strike="noStrike">
              <a:solidFill>
                <a:srgbClr val="00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9320" y="434340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57600" y="434340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248520" y="4343400"/>
            <a:ext cx="2181240" cy="218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716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Wykres funkcji y=f(|x|) dla x</a:t>
            </a:r>
            <a:r>
              <a:rPr b="0" lang="pl-PL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800240" y="4190760"/>
            <a:ext cx="3809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Dla x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0  ma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|x|=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ówczas   f(|x|)=f(x)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5800" y="2143080"/>
            <a:ext cx="3809880" cy="3789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74640" y="2114640"/>
            <a:ext cx="3801960" cy="3781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800600" y="22860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Dany jest wykres funkcji 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048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Sporządzając wykres funkcji y=f(|x|) należy zwrócić uwagę na znak argumentu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547120" y="6261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8500"/>
                            </p:stCondLst>
                            <p:childTnLst>
                              <p:par>
                                <p:cTn id="315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7500"/>
                            </p:stCondLst>
                            <p:childTnLst>
                              <p:par>
                                <p:cTn id="324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Wykres funkcji y=f(|x|) dla x&lt;0</a:t>
            </a:r>
            <a:endParaRPr b="0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eraz pozostało nam tylko skorzystać z własności wartości bezwzględnej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342900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Oznacza to, że funkcja dla x&lt;0 przyjmuje takie same wartości jak  dla x&gt;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2120" y="1924200"/>
            <a:ext cx="3809880" cy="3789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70040" y="1905120"/>
            <a:ext cx="3801960" cy="3781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199120" y="2973240"/>
            <a:ext cx="30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|-x|=|x|=x  dla x</a:t>
            </a:r>
            <a:r>
              <a:rPr b="0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515440" y="619128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44956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Przekształcając więc wykres funkcji y=f(x) dla x&gt;0 względem osi OY otrzymamy wykres funkcji y=f(|x|) dla x&l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62120" y="1905120"/>
            <a:ext cx="3895560" cy="38750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247680" y="611496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500"/>
                            </p:stCondLst>
                            <p:childTnLst>
                              <p:par>
                                <p:cTn id="346" nodeType="after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3500"/>
                            </p:stCondLst>
                            <p:childTnLst>
                              <p:par>
                                <p:cTn id="355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60" nodeType="afterEffect" fill="hold" presetClass="entr" presetID="17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7500"/>
                            </p:stCondLst>
                            <p:childTnLst>
                              <p:par>
                                <p:cTn id="367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9T09:34:30Z</dcterms:created>
  <dc:creator>K</dc:creator>
  <dc:description/>
  <dc:language>en-US</dc:language>
  <cp:lastModifiedBy>.</cp:lastModifiedBy>
  <dcterms:modified xsi:type="dcterms:W3CDTF">2009-08-05T13:04:10Z</dcterms:modified>
  <cp:revision>37</cp:revision>
  <dc:subject/>
  <dc:title>Przekształcanie wykresów</dc:title>
</cp:coreProperties>
</file>