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APARAT.WAV" ContentType="audio/x-wav"/>
  <Override PartName="/ppt/media/DZWONKI.WAV" ContentType="audio/x-wav"/>
  <Override PartName="/ppt/media/carbrake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projctor.wav" ContentType="audio/x-wav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AD3-51A9-4B71-93C7-C8694DEC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CE5-4805-48B6-9FD8-5D34981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9F2-A042-4B8C-8FFD-A542902E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454-F150-4F49-9385-08009E5B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E1AD-3884-472B-9E8D-760F0C55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680-8D24-49AB-86E9-1E55F47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13B-9692-4936-A41C-81DE0AD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3BBF-BF04-47A8-9892-5698771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386F-7AC2-4DFF-9832-9C225823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EDB-6A47-4450-ACDC-C8DF76D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B27E-7CAF-4B92-8470-DE23A1D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9B1-9963-435F-9DBD-810878C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0CF-A5C3-415C-B53A-C980A16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F421-42D8-45F8-8987-41510B4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5339-651E-45B9-9086-F857170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106A-806D-4EAA-A30A-FF6DDD22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F0BF-A2B2-4E14-9B52-674F5B4B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277-FBE9-49BF-8F98-4036F0B4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D3E-DB7C-493C-9A2B-42EE5B6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004-E73C-47B7-8EE6-46EE231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5D2-96B9-4ACB-813D-F9C0C42C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7FC-513D-49A5-BBE1-55A7528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5FE-9431-413D-B83E-E862A87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319-1F17-44CB-8541-2763250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EA4-3CF3-419C-8A32-4AA026EBD429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F0F-F465-4E7C-8E2E-0F8FC15CBEBA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glas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DZWONKI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audio" Target="../media/DZWONKI.WAV"/><Relationship Id="rId8" Type="http://schemas.openxmlformats.org/officeDocument/2006/relationships/audio" Target="../media/DZWONKI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audio" Target="../media/DZWONKI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ZWONKI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FUNKCJA KWADRATOW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WYKONAŁ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inga Celińska-Droz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Ewelina Doros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ównanie dwukwadratow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4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c=0 dla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,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.   Sprowadza się do równania kwadratowego za pomocą podstawienia 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z, gdzie z 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Nierówności kwadratow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Nierównością kwadratową nazywamy nierówność  postaci: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&gt;0 lub 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&lt;0, gdzie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 i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la utrwalenia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ilka zadań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1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Sprowadź do postaci kanonicznej funkcje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y=-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2x+3       y=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5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ozwiąż równanie 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5x+6=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ozwiąż nierówności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4x-2&lt;3(2x+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2(x-3)-6(x+2)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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2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-3x+5&lt;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ziękujemy za obejrzenie naszej prezentacji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Definicja funkcji kwadratowej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ę określoną dla liczb rzeczywistych x wzorem y=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, gdzie a,b,c są ustalonymi liczbami rzeczywistymi przy czym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Wykres funkcji y=x</a:t>
            </a:r>
            <a:r>
              <a:rPr b="0" lang="pl-PL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105160" cy="46101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cie funkcj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Kanoniczna: y=a(x-p)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q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Iloczynowa: y=a(x-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)(x-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Ogólna: y=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ć kanoni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ę y=a(x-p)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q, gdzie 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, x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R nazywamy funkcją kwadratową lub trójmianem kwadratowym postaci kanonicznej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p=-b/2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q=-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/4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Y=-(x-2)</a:t>
            </a:r>
            <a:r>
              <a:rPr b="0" lang="pl-PL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+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4648320" cy="419724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Miejsca zerowe funkcj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ma dwa różne miejsca zerowe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 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&gt;0, przy czym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ma dokładnie jedno miejsce zerowe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0 i wówczas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-b/2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funkcja kwadratowa nie ma miejsc zerowych</a:t>
            </a:r>
            <a:r>
              <a:rPr b="0" lang="pl-PL" sz="3200" spc="-1" strike="noStrike">
                <a:solidFill>
                  <a:srgbClr val="ccecff"/>
                </a:solidFill>
                <a:latin typeface="Wingdings"/>
                <a:ea typeface="Wingdings"/>
              </a:rPr>
              <a:t>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&lt;0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0" y="2971800"/>
          <a:ext cx="385272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971800"/>
                    <a:ext cx="3852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stać iloczynow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Jeżeli 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&gt;0, to trójmian kwadratowy y=ax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+bx+c (a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0) można przedstawić w postaci iloczynu y=a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, gdzie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 oznaczają miejsce zerowe trójmianu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jeżeli 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=0, to trójmian kwadratowy y=ax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+bx+c (a</a:t>
            </a:r>
            <a:r>
              <a:rPr b="0" lang="pl-PL" sz="28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0) można przedstawić w postaci y=a(x-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)</a:t>
            </a:r>
            <a:r>
              <a:rPr b="0" lang="pl-PL" sz="28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28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ccecff"/>
                </a:solidFill>
                <a:latin typeface="Tahoma"/>
              </a:rPr>
              <a:t> miejsce zerow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Wzory Viete’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Jeżeli równanie kwadratowe ax</a:t>
            </a:r>
            <a:r>
              <a:rPr b="0" lang="pl-PL" sz="32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bx+c=0 (a</a:t>
            </a:r>
            <a:r>
              <a:rPr b="0" lang="pl-PL" sz="32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0) ma rozwiązania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, to 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+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-b/a, 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  <a:ea typeface="Tahoma"/>
              </a:rPr>
              <a:t>·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x</a:t>
            </a:r>
            <a:r>
              <a:rPr b="0" lang="pl-PL" sz="32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ccecff"/>
                </a:solidFill>
                <a:latin typeface="Tahoma"/>
              </a:rPr>
              <a:t>=c/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advTm="1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7:25:37Z</dcterms:created>
  <dc:creator>ZSR</dc:creator>
  <dc:description/>
  <dc:language>en-US</dc:language>
  <cp:lastModifiedBy>.</cp:lastModifiedBy>
  <dcterms:modified xsi:type="dcterms:W3CDTF">2009-08-05T13:14:14Z</dcterms:modified>
  <cp:revision>9</cp:revision>
  <dc:subject/>
  <dc:title>FUNKCJA KWADRATOWA</dc:title>
</cp:coreProperties>
</file>